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wmf" ContentType="image/x-wmf"/>
  <Override PartName="/ppt/media/image14.png" ContentType="image/png"/>
  <Override PartName="/ppt/media/image12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E702-3CB9-437E-AD77-F95BE268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D7B-448A-4AEC-ACB5-4BC4D75D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9AA6-97E0-4719-94D0-D8A6CFBB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D1F8-C876-4410-A5CC-D59ED737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D462-D887-418C-A1D2-AF7F3C54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D70B-710C-4FA3-828B-07C4754B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231-9026-4589-952D-B7F76CA8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AA8F-1191-4930-A00B-D48C23B1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D42D-1974-4971-BFC7-4EAE29DF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AAC-9411-4D4A-8778-F201A499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DD50-836E-4571-9B20-DB6006F0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EF41-685A-48FC-9A43-60EB2FAC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0304-30E7-41B0-81DC-200AC1F06C0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ybercenter.cl/" TargetMode="External"/><Relationship Id="rId3" Type="http://schemas.openxmlformats.org/officeDocument/2006/relationships/hyperlink" Target="http://www.cybercenter.cl/" TargetMode="External"/><Relationship Id="rId4" Type="http://schemas.openxmlformats.org/officeDocument/2006/relationships/hyperlink" Target="http://www.cybercenter.cl/" TargetMode="External"/><Relationship Id="rId5" Type="http://schemas.openxmlformats.org/officeDocument/2006/relationships/hyperlink" Target="http://www.cybercenter.cl/" TargetMode="External"/><Relationship Id="rId6" Type="http://schemas.openxmlformats.org/officeDocument/2006/relationships/hyperlink" Target="http://www.cybercenter.cl/" TargetMode="External"/><Relationship Id="rId7" Type="http://schemas.openxmlformats.org/officeDocument/2006/relationships/hyperlink" Target="http://www.cybercenter.cl/" TargetMode="External"/><Relationship Id="rId8" Type="http://schemas.openxmlformats.org/officeDocument/2006/relationships/hyperlink" Target="http://www.cybercenter.cl/" TargetMode="External"/><Relationship Id="rId9" Type="http://schemas.openxmlformats.org/officeDocument/2006/relationships/hyperlink" Target="http://www.cybercenter.cl/" TargetMode="External"/><Relationship Id="rId10" Type="http://schemas.openxmlformats.org/officeDocument/2006/relationships/hyperlink" Target="http://www.cybercenter.cl/" TargetMode="External"/><Relationship Id="rId11" Type="http://schemas.openxmlformats.org/officeDocument/2006/relationships/hyperlink" Target="http://www.cybercenter.cl/" TargetMode="External"/><Relationship Id="rId1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133720"/>
            <a:ext cx="74678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ELECOMUNICACIONES Y TECNOLOGÍAS DE LA INFORMACIÓN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stado Actual y Persp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4874040"/>
            <a:ext cx="673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ristian Nicol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bsecretario de Telecomun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17000" y="59436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ubre -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%20SUBTEL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106668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495" name=""/>
          <p:cNvGrpSpPr/>
          <p:nvPr/>
        </p:nvGrpSpPr>
        <p:grpSpPr>
          <a:xfrm>
            <a:off x="744480" y="1353960"/>
            <a:ext cx="7631280" cy="5186520"/>
            <a:chOff x="744480" y="1353960"/>
            <a:chExt cx="7631280" cy="5186520"/>
          </a:xfrm>
        </p:grpSpPr>
        <p:sp>
          <p:nvSpPr>
            <p:cNvPr id="496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370400" y="3390840"/>
              <a:ext cx="190440" cy="687600"/>
            </a:xfrm>
            <a:custGeom>
              <a:avLst/>
              <a:gdLst/>
              <a:ahLst/>
              <a:rect l="l" t="t" r="r" b="b"/>
              <a:pathLst>
                <a:path w="120" h="433">
                  <a:moveTo>
                    <a:pt x="0" y="0"/>
                  </a:moveTo>
                  <a:lnTo>
                    <a:pt x="30" y="0"/>
                  </a:lnTo>
                  <a:lnTo>
                    <a:pt x="90" y="0"/>
                  </a:lnTo>
                  <a:lnTo>
                    <a:pt x="120" y="0"/>
                  </a:lnTo>
                  <a:lnTo>
                    <a:pt x="12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65800" y="2976480"/>
              <a:ext cx="164880" cy="41436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14" y="0"/>
                  </a:moveTo>
                  <a:lnTo>
                    <a:pt x="14" y="13"/>
                  </a:lnTo>
                  <a:lnTo>
                    <a:pt x="0" y="35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275000" y="3390840"/>
              <a:ext cx="285840" cy="687600"/>
            </a:xfrm>
            <a:custGeom>
              <a:avLst/>
              <a:gdLst/>
              <a:ahLst/>
              <a:rect l="l" t="t" r="r" b="b"/>
              <a:pathLst>
                <a:path w="180" h="433">
                  <a:moveTo>
                    <a:pt x="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60" y="0"/>
                  </a:lnTo>
                  <a:lnTo>
                    <a:pt x="18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133880" y="2846520"/>
              <a:ext cx="201600" cy="5443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0"/>
                  </a:moveTo>
                  <a:lnTo>
                    <a:pt x="13" y="0"/>
                  </a:lnTo>
                  <a:lnTo>
                    <a:pt x="17" y="4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60840" y="3390840"/>
              <a:ext cx="414360" cy="687600"/>
            </a:xfrm>
            <a:custGeom>
              <a:avLst/>
              <a:gdLst/>
              <a:ahLst/>
              <a:rect l="l" t="t" r="r" b="b"/>
              <a:pathLst>
                <a:path w="261" h="433">
                  <a:moveTo>
                    <a:pt x="0" y="0"/>
                  </a:moveTo>
                  <a:lnTo>
                    <a:pt x="29" y="0"/>
                  </a:lnTo>
                  <a:lnTo>
                    <a:pt x="59" y="0"/>
                  </a:lnTo>
                  <a:lnTo>
                    <a:pt x="82" y="0"/>
                  </a:lnTo>
                  <a:lnTo>
                    <a:pt x="111" y="0"/>
                  </a:lnTo>
                  <a:lnTo>
                    <a:pt x="141" y="0"/>
                  </a:lnTo>
                  <a:lnTo>
                    <a:pt x="171" y="0"/>
                  </a:lnTo>
                  <a:lnTo>
                    <a:pt x="201" y="0"/>
                  </a:lnTo>
                  <a:lnTo>
                    <a:pt x="231" y="0"/>
                  </a:lnTo>
                  <a:lnTo>
                    <a:pt x="261" y="0"/>
                  </a:lnTo>
                  <a:lnTo>
                    <a:pt x="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49840" y="3024360"/>
              <a:ext cx="297000" cy="3664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5" y="0"/>
                  </a:moveTo>
                  <a:lnTo>
                    <a:pt x="25" y="13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60840" y="3390840"/>
              <a:ext cx="900000" cy="687600"/>
            </a:xfrm>
            <a:custGeom>
              <a:avLst/>
              <a:gdLst/>
              <a:ahLst/>
              <a:rect l="l" t="t" r="r" b="b"/>
              <a:pathLst>
                <a:path w="567" h="433">
                  <a:moveTo>
                    <a:pt x="261" y="0"/>
                  </a:moveTo>
                  <a:lnTo>
                    <a:pt x="283" y="8"/>
                  </a:lnTo>
                  <a:lnTo>
                    <a:pt x="313" y="8"/>
                  </a:lnTo>
                  <a:lnTo>
                    <a:pt x="373" y="8"/>
                  </a:lnTo>
                  <a:lnTo>
                    <a:pt x="403" y="8"/>
                  </a:lnTo>
                  <a:lnTo>
                    <a:pt x="425" y="15"/>
                  </a:lnTo>
                  <a:lnTo>
                    <a:pt x="455" y="15"/>
                  </a:lnTo>
                  <a:lnTo>
                    <a:pt x="515" y="23"/>
                  </a:lnTo>
                  <a:lnTo>
                    <a:pt x="537" y="23"/>
                  </a:lnTo>
                  <a:lnTo>
                    <a:pt x="567" y="23"/>
                  </a:lnTo>
                  <a:lnTo>
                    <a:pt x="0" y="433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00560" y="3013200"/>
              <a:ext cx="284400" cy="4014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4" y="0"/>
                  </a:moveTo>
                  <a:lnTo>
                    <a:pt x="24" y="13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65440" y="3390840"/>
              <a:ext cx="995400" cy="687600"/>
            </a:xfrm>
            <a:custGeom>
              <a:avLst/>
              <a:gdLst/>
              <a:ahLst/>
              <a:rect l="l" t="t" r="r" b="b"/>
              <a:pathLst>
                <a:path w="627" h="433">
                  <a:moveTo>
                    <a:pt x="0" y="30"/>
                  </a:moveTo>
                  <a:lnTo>
                    <a:pt x="29" y="30"/>
                  </a:lnTo>
                  <a:lnTo>
                    <a:pt x="82" y="23"/>
                  </a:lnTo>
                  <a:lnTo>
                    <a:pt x="112" y="23"/>
                  </a:lnTo>
                  <a:lnTo>
                    <a:pt x="141" y="15"/>
                  </a:lnTo>
                  <a:lnTo>
                    <a:pt x="194" y="15"/>
                  </a:lnTo>
                  <a:lnTo>
                    <a:pt x="224" y="8"/>
                  </a:lnTo>
                  <a:lnTo>
                    <a:pt x="253" y="8"/>
                  </a:lnTo>
                  <a:lnTo>
                    <a:pt x="306" y="8"/>
                  </a:lnTo>
                  <a:lnTo>
                    <a:pt x="335" y="8"/>
                  </a:lnTo>
                  <a:lnTo>
                    <a:pt x="365" y="0"/>
                  </a:lnTo>
                  <a:lnTo>
                    <a:pt x="425" y="0"/>
                  </a:lnTo>
                  <a:lnTo>
                    <a:pt x="447" y="0"/>
                  </a:lnTo>
                  <a:lnTo>
                    <a:pt x="627" y="43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05320" y="2894040"/>
              <a:ext cx="415800" cy="52056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0" y="0"/>
                  </a:moveTo>
                  <a:lnTo>
                    <a:pt x="13" y="0"/>
                  </a:lnTo>
                  <a:lnTo>
                    <a:pt x="35" y="4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60840" y="3427560"/>
              <a:ext cx="1065240" cy="650880"/>
            </a:xfrm>
            <a:custGeom>
              <a:avLst/>
              <a:gdLst/>
              <a:ahLst/>
              <a:rect l="l" t="t" r="r" b="b"/>
              <a:pathLst>
                <a:path w="671" h="410">
                  <a:moveTo>
                    <a:pt x="567" y="0"/>
                  </a:moveTo>
                  <a:lnTo>
                    <a:pt x="597" y="7"/>
                  </a:lnTo>
                  <a:lnTo>
                    <a:pt x="649" y="7"/>
                  </a:lnTo>
                  <a:lnTo>
                    <a:pt x="671" y="15"/>
                  </a:lnTo>
                  <a:lnTo>
                    <a:pt x="0" y="410"/>
                  </a:lnTo>
                  <a:lnTo>
                    <a:pt x="56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54800" y="3083040"/>
              <a:ext cx="309600" cy="3553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6" y="0"/>
                  </a:moveTo>
                  <a:lnTo>
                    <a:pt x="26" y="13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0840" y="3451320"/>
              <a:ext cx="1397160" cy="627120"/>
            </a:xfrm>
            <a:custGeom>
              <a:avLst/>
              <a:gdLst/>
              <a:ahLst/>
              <a:rect l="l" t="t" r="r" b="b"/>
              <a:pathLst>
                <a:path w="880" h="395">
                  <a:moveTo>
                    <a:pt x="671" y="0"/>
                  </a:moveTo>
                  <a:lnTo>
                    <a:pt x="701" y="0"/>
                  </a:lnTo>
                  <a:lnTo>
                    <a:pt x="753" y="7"/>
                  </a:lnTo>
                  <a:lnTo>
                    <a:pt x="776" y="14"/>
                  </a:lnTo>
                  <a:lnTo>
                    <a:pt x="806" y="14"/>
                  </a:lnTo>
                  <a:lnTo>
                    <a:pt x="858" y="22"/>
                  </a:lnTo>
                  <a:lnTo>
                    <a:pt x="880" y="29"/>
                  </a:lnTo>
                  <a:lnTo>
                    <a:pt x="0" y="39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803920" y="3048120"/>
              <a:ext cx="509400" cy="425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3" y="0"/>
                  </a:moveTo>
                  <a:lnTo>
                    <a:pt x="30" y="0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14720" y="3438360"/>
              <a:ext cx="1446120" cy="640080"/>
            </a:xfrm>
            <a:custGeom>
              <a:avLst/>
              <a:gdLst/>
              <a:ahLst/>
              <a:rect l="l" t="t" r="r" b="b"/>
              <a:pathLst>
                <a:path w="911" h="403">
                  <a:moveTo>
                    <a:pt x="0" y="37"/>
                  </a:moveTo>
                  <a:lnTo>
                    <a:pt x="30" y="37"/>
                  </a:lnTo>
                  <a:lnTo>
                    <a:pt x="52" y="30"/>
                  </a:lnTo>
                  <a:lnTo>
                    <a:pt x="104" y="22"/>
                  </a:lnTo>
                  <a:lnTo>
                    <a:pt x="127" y="22"/>
                  </a:lnTo>
                  <a:lnTo>
                    <a:pt x="157" y="15"/>
                  </a:lnTo>
                  <a:lnTo>
                    <a:pt x="179" y="15"/>
                  </a:lnTo>
                  <a:lnTo>
                    <a:pt x="231" y="8"/>
                  </a:lnTo>
                  <a:lnTo>
                    <a:pt x="261" y="0"/>
                  </a:lnTo>
                  <a:lnTo>
                    <a:pt x="284" y="0"/>
                  </a:lnTo>
                  <a:lnTo>
                    <a:pt x="911" y="40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13120" y="3024360"/>
              <a:ext cx="403200" cy="448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0" y="0"/>
                  </a:moveTo>
                  <a:lnTo>
                    <a:pt x="13" y="0"/>
                  </a:lnTo>
                  <a:lnTo>
                    <a:pt x="34" y="38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25520" y="3497400"/>
              <a:ext cx="2335320" cy="581040"/>
            </a:xfrm>
            <a:custGeom>
              <a:avLst/>
              <a:gdLst/>
              <a:ahLst/>
              <a:rect l="l" t="t" r="r" b="b"/>
              <a:pathLst>
                <a:path w="1471" h="366">
                  <a:moveTo>
                    <a:pt x="0" y="164"/>
                  </a:moveTo>
                  <a:lnTo>
                    <a:pt x="15" y="157"/>
                  </a:lnTo>
                  <a:lnTo>
                    <a:pt x="30" y="150"/>
                  </a:lnTo>
                  <a:lnTo>
                    <a:pt x="60" y="135"/>
                  </a:lnTo>
                  <a:lnTo>
                    <a:pt x="75" y="127"/>
                  </a:lnTo>
                  <a:lnTo>
                    <a:pt x="90" y="120"/>
                  </a:lnTo>
                  <a:lnTo>
                    <a:pt x="105" y="112"/>
                  </a:lnTo>
                  <a:lnTo>
                    <a:pt x="120" y="112"/>
                  </a:lnTo>
                  <a:lnTo>
                    <a:pt x="157" y="97"/>
                  </a:lnTo>
                  <a:lnTo>
                    <a:pt x="172" y="90"/>
                  </a:lnTo>
                  <a:lnTo>
                    <a:pt x="194" y="82"/>
                  </a:lnTo>
                  <a:lnTo>
                    <a:pt x="209" y="82"/>
                  </a:lnTo>
                  <a:lnTo>
                    <a:pt x="254" y="67"/>
                  </a:lnTo>
                  <a:lnTo>
                    <a:pt x="269" y="60"/>
                  </a:lnTo>
                  <a:lnTo>
                    <a:pt x="291" y="60"/>
                  </a:lnTo>
                  <a:lnTo>
                    <a:pt x="314" y="53"/>
                  </a:lnTo>
                  <a:lnTo>
                    <a:pt x="336" y="45"/>
                  </a:lnTo>
                  <a:lnTo>
                    <a:pt x="373" y="38"/>
                  </a:lnTo>
                  <a:lnTo>
                    <a:pt x="396" y="30"/>
                  </a:lnTo>
                  <a:lnTo>
                    <a:pt x="418" y="30"/>
                  </a:lnTo>
                  <a:lnTo>
                    <a:pt x="441" y="23"/>
                  </a:lnTo>
                  <a:lnTo>
                    <a:pt x="470" y="15"/>
                  </a:lnTo>
                  <a:lnTo>
                    <a:pt x="515" y="8"/>
                  </a:lnTo>
                  <a:lnTo>
                    <a:pt x="538" y="8"/>
                  </a:lnTo>
                  <a:lnTo>
                    <a:pt x="560" y="0"/>
                  </a:lnTo>
                  <a:lnTo>
                    <a:pt x="1471" y="366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308320" y="3189240"/>
              <a:ext cx="285480" cy="42696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0"/>
                  </a:moveTo>
                  <a:lnTo>
                    <a:pt x="13" y="0"/>
                  </a:lnTo>
                  <a:lnTo>
                    <a:pt x="24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60840" y="3497400"/>
              <a:ext cx="2511360" cy="581040"/>
            </a:xfrm>
            <a:custGeom>
              <a:avLst/>
              <a:gdLst/>
              <a:ahLst/>
              <a:rect l="l" t="t" r="r" b="b"/>
              <a:pathLst>
                <a:path w="1582" h="366">
                  <a:moveTo>
                    <a:pt x="880" y="0"/>
                  </a:moveTo>
                  <a:lnTo>
                    <a:pt x="903" y="0"/>
                  </a:lnTo>
                  <a:lnTo>
                    <a:pt x="955" y="8"/>
                  </a:lnTo>
                  <a:lnTo>
                    <a:pt x="977" y="15"/>
                  </a:lnTo>
                  <a:lnTo>
                    <a:pt x="1000" y="15"/>
                  </a:lnTo>
                  <a:lnTo>
                    <a:pt x="1044" y="30"/>
                  </a:lnTo>
                  <a:lnTo>
                    <a:pt x="1067" y="30"/>
                  </a:lnTo>
                  <a:lnTo>
                    <a:pt x="1089" y="38"/>
                  </a:lnTo>
                  <a:lnTo>
                    <a:pt x="1134" y="45"/>
                  </a:lnTo>
                  <a:lnTo>
                    <a:pt x="1156" y="53"/>
                  </a:lnTo>
                  <a:lnTo>
                    <a:pt x="1171" y="60"/>
                  </a:lnTo>
                  <a:lnTo>
                    <a:pt x="1216" y="67"/>
                  </a:lnTo>
                  <a:lnTo>
                    <a:pt x="1231" y="75"/>
                  </a:lnTo>
                  <a:lnTo>
                    <a:pt x="1253" y="82"/>
                  </a:lnTo>
                  <a:lnTo>
                    <a:pt x="1291" y="90"/>
                  </a:lnTo>
                  <a:lnTo>
                    <a:pt x="1306" y="97"/>
                  </a:lnTo>
                  <a:lnTo>
                    <a:pt x="1328" y="105"/>
                  </a:lnTo>
                  <a:lnTo>
                    <a:pt x="1358" y="112"/>
                  </a:lnTo>
                  <a:lnTo>
                    <a:pt x="1380" y="120"/>
                  </a:lnTo>
                  <a:lnTo>
                    <a:pt x="1395" y="127"/>
                  </a:lnTo>
                  <a:lnTo>
                    <a:pt x="1425" y="142"/>
                  </a:lnTo>
                  <a:lnTo>
                    <a:pt x="1440" y="150"/>
                  </a:lnTo>
                  <a:lnTo>
                    <a:pt x="1455" y="157"/>
                  </a:lnTo>
                  <a:lnTo>
                    <a:pt x="1477" y="164"/>
                  </a:lnTo>
                  <a:lnTo>
                    <a:pt x="1492" y="172"/>
                  </a:lnTo>
                  <a:lnTo>
                    <a:pt x="1507" y="179"/>
                  </a:lnTo>
                  <a:lnTo>
                    <a:pt x="1530" y="194"/>
                  </a:lnTo>
                  <a:lnTo>
                    <a:pt x="1544" y="202"/>
                  </a:lnTo>
                  <a:lnTo>
                    <a:pt x="1552" y="209"/>
                  </a:lnTo>
                  <a:lnTo>
                    <a:pt x="1574" y="224"/>
                  </a:lnTo>
                  <a:lnTo>
                    <a:pt x="1582" y="232"/>
                  </a:lnTo>
                  <a:lnTo>
                    <a:pt x="0" y="366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45240" y="3308400"/>
              <a:ext cx="212760" cy="3427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8" y="0"/>
                  </a:moveTo>
                  <a:lnTo>
                    <a:pt x="5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48040" y="3757680"/>
              <a:ext cx="2512800" cy="320760"/>
            </a:xfrm>
            <a:custGeom>
              <a:avLst/>
              <a:gdLst/>
              <a:ahLst/>
              <a:rect l="l" t="t" r="r" b="b"/>
              <a:pathLst>
                <a:path w="1583" h="202">
                  <a:moveTo>
                    <a:pt x="0" y="68"/>
                  </a:moveTo>
                  <a:lnTo>
                    <a:pt x="8" y="60"/>
                  </a:lnTo>
                  <a:lnTo>
                    <a:pt x="15" y="53"/>
                  </a:lnTo>
                  <a:lnTo>
                    <a:pt x="30" y="45"/>
                  </a:lnTo>
                  <a:lnTo>
                    <a:pt x="38" y="38"/>
                  </a:lnTo>
                  <a:lnTo>
                    <a:pt x="60" y="23"/>
                  </a:lnTo>
                  <a:lnTo>
                    <a:pt x="75" y="15"/>
                  </a:lnTo>
                  <a:lnTo>
                    <a:pt x="82" y="8"/>
                  </a:lnTo>
                  <a:lnTo>
                    <a:pt x="97" y="0"/>
                  </a:lnTo>
                  <a:lnTo>
                    <a:pt x="112" y="0"/>
                  </a:lnTo>
                  <a:lnTo>
                    <a:pt x="1583" y="20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11160" y="3403440"/>
              <a:ext cx="320760" cy="40176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0" y="0"/>
                  </a:moveTo>
                  <a:lnTo>
                    <a:pt x="13" y="0"/>
                  </a:lnTo>
                  <a:lnTo>
                    <a:pt x="27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30320" y="3865680"/>
              <a:ext cx="2630520" cy="212760"/>
            </a:xfrm>
            <a:custGeom>
              <a:avLst/>
              <a:gdLst/>
              <a:ahLst/>
              <a:rect l="l" t="t" r="r" b="b"/>
              <a:pathLst>
                <a:path w="1657" h="134">
                  <a:moveTo>
                    <a:pt x="0" y="82"/>
                  </a:moveTo>
                  <a:lnTo>
                    <a:pt x="7" y="74"/>
                  </a:lnTo>
                  <a:lnTo>
                    <a:pt x="7" y="67"/>
                  </a:lnTo>
                  <a:lnTo>
                    <a:pt x="22" y="5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7" y="29"/>
                  </a:lnTo>
                  <a:lnTo>
                    <a:pt x="52" y="14"/>
                  </a:lnTo>
                  <a:lnTo>
                    <a:pt x="59" y="7"/>
                  </a:lnTo>
                  <a:lnTo>
                    <a:pt x="74" y="0"/>
                  </a:lnTo>
                  <a:lnTo>
                    <a:pt x="1657" y="13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22520" y="3911760"/>
              <a:ext cx="355680" cy="23760"/>
            </a:xfrm>
            <a:custGeom>
              <a:avLst/>
              <a:gdLst/>
              <a:ahLst/>
              <a:rect l="l" t="t" r="r" b="b"/>
              <a:pathLst>
                <a:path w="30" h="2">
                  <a:moveTo>
                    <a:pt x="0" y="0"/>
                  </a:moveTo>
                  <a:lnTo>
                    <a:pt x="13" y="0"/>
                  </a:lnTo>
                  <a:lnTo>
                    <a:pt x="30" y="2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917720" y="4065480"/>
              <a:ext cx="5284800" cy="1420920"/>
            </a:xfrm>
            <a:custGeom>
              <a:avLst/>
              <a:gdLst/>
              <a:ahLst/>
              <a:rect l="l" t="t" r="r" b="b"/>
              <a:pathLst>
                <a:path w="3329" h="895">
                  <a:moveTo>
                    <a:pt x="3329" y="0"/>
                  </a:moveTo>
                  <a:lnTo>
                    <a:pt x="3329" y="8"/>
                  </a:lnTo>
                  <a:lnTo>
                    <a:pt x="3321" y="23"/>
                  </a:lnTo>
                  <a:lnTo>
                    <a:pt x="3321" y="30"/>
                  </a:lnTo>
                  <a:lnTo>
                    <a:pt x="3321" y="38"/>
                  </a:lnTo>
                  <a:lnTo>
                    <a:pt x="3314" y="53"/>
                  </a:lnTo>
                  <a:lnTo>
                    <a:pt x="3314" y="60"/>
                  </a:lnTo>
                  <a:lnTo>
                    <a:pt x="3306" y="67"/>
                  </a:lnTo>
                  <a:lnTo>
                    <a:pt x="3299" y="82"/>
                  </a:lnTo>
                  <a:lnTo>
                    <a:pt x="3292" y="90"/>
                  </a:lnTo>
                  <a:lnTo>
                    <a:pt x="3284" y="97"/>
                  </a:lnTo>
                  <a:lnTo>
                    <a:pt x="3269" y="112"/>
                  </a:lnTo>
                  <a:lnTo>
                    <a:pt x="3262" y="120"/>
                  </a:lnTo>
                  <a:lnTo>
                    <a:pt x="3254" y="127"/>
                  </a:lnTo>
                  <a:lnTo>
                    <a:pt x="3239" y="142"/>
                  </a:lnTo>
                  <a:lnTo>
                    <a:pt x="3224" y="150"/>
                  </a:lnTo>
                  <a:lnTo>
                    <a:pt x="3217" y="157"/>
                  </a:lnTo>
                  <a:lnTo>
                    <a:pt x="3195" y="172"/>
                  </a:lnTo>
                  <a:lnTo>
                    <a:pt x="3180" y="179"/>
                  </a:lnTo>
                  <a:lnTo>
                    <a:pt x="3172" y="187"/>
                  </a:lnTo>
                  <a:lnTo>
                    <a:pt x="3142" y="194"/>
                  </a:lnTo>
                  <a:lnTo>
                    <a:pt x="3135" y="202"/>
                  </a:lnTo>
                  <a:lnTo>
                    <a:pt x="3120" y="209"/>
                  </a:lnTo>
                  <a:lnTo>
                    <a:pt x="3090" y="224"/>
                  </a:lnTo>
                  <a:lnTo>
                    <a:pt x="3075" y="232"/>
                  </a:lnTo>
                  <a:lnTo>
                    <a:pt x="3060" y="239"/>
                  </a:lnTo>
                  <a:lnTo>
                    <a:pt x="3023" y="246"/>
                  </a:lnTo>
                  <a:lnTo>
                    <a:pt x="3008" y="254"/>
                  </a:lnTo>
                  <a:lnTo>
                    <a:pt x="2993" y="261"/>
                  </a:lnTo>
                  <a:lnTo>
                    <a:pt x="2956" y="269"/>
                  </a:lnTo>
                  <a:lnTo>
                    <a:pt x="2941" y="276"/>
                  </a:lnTo>
                  <a:lnTo>
                    <a:pt x="2918" y="284"/>
                  </a:lnTo>
                  <a:lnTo>
                    <a:pt x="2881" y="291"/>
                  </a:lnTo>
                  <a:lnTo>
                    <a:pt x="2859" y="299"/>
                  </a:lnTo>
                  <a:lnTo>
                    <a:pt x="2836" y="306"/>
                  </a:lnTo>
                  <a:lnTo>
                    <a:pt x="2799" y="314"/>
                  </a:lnTo>
                  <a:lnTo>
                    <a:pt x="2777" y="321"/>
                  </a:lnTo>
                  <a:lnTo>
                    <a:pt x="2754" y="329"/>
                  </a:lnTo>
                  <a:lnTo>
                    <a:pt x="2709" y="336"/>
                  </a:lnTo>
                  <a:lnTo>
                    <a:pt x="2687" y="343"/>
                  </a:lnTo>
                  <a:lnTo>
                    <a:pt x="2665" y="343"/>
                  </a:lnTo>
                  <a:lnTo>
                    <a:pt x="2620" y="351"/>
                  </a:lnTo>
                  <a:lnTo>
                    <a:pt x="2590" y="358"/>
                  </a:lnTo>
                  <a:lnTo>
                    <a:pt x="2568" y="358"/>
                  </a:lnTo>
                  <a:lnTo>
                    <a:pt x="2523" y="373"/>
                  </a:lnTo>
                  <a:lnTo>
                    <a:pt x="2493" y="373"/>
                  </a:lnTo>
                  <a:lnTo>
                    <a:pt x="2471" y="381"/>
                  </a:lnTo>
                  <a:lnTo>
                    <a:pt x="2418" y="381"/>
                  </a:lnTo>
                  <a:lnTo>
                    <a:pt x="2396" y="388"/>
                  </a:lnTo>
                  <a:lnTo>
                    <a:pt x="2366" y="388"/>
                  </a:lnTo>
                  <a:lnTo>
                    <a:pt x="2314" y="396"/>
                  </a:lnTo>
                  <a:lnTo>
                    <a:pt x="2284" y="403"/>
                  </a:lnTo>
                  <a:lnTo>
                    <a:pt x="2262" y="403"/>
                  </a:lnTo>
                  <a:lnTo>
                    <a:pt x="2202" y="411"/>
                  </a:lnTo>
                  <a:lnTo>
                    <a:pt x="2180" y="411"/>
                  </a:lnTo>
                  <a:lnTo>
                    <a:pt x="2150" y="411"/>
                  </a:lnTo>
                  <a:lnTo>
                    <a:pt x="2090" y="418"/>
                  </a:lnTo>
                  <a:lnTo>
                    <a:pt x="2068" y="418"/>
                  </a:lnTo>
                  <a:lnTo>
                    <a:pt x="2038" y="418"/>
                  </a:lnTo>
                  <a:lnTo>
                    <a:pt x="1978" y="426"/>
                  </a:lnTo>
                  <a:lnTo>
                    <a:pt x="1948" y="426"/>
                  </a:lnTo>
                  <a:lnTo>
                    <a:pt x="1926" y="426"/>
                  </a:lnTo>
                  <a:lnTo>
                    <a:pt x="1866" y="426"/>
                  </a:lnTo>
                  <a:lnTo>
                    <a:pt x="1836" y="426"/>
                  </a:lnTo>
                  <a:lnTo>
                    <a:pt x="1806" y="433"/>
                  </a:lnTo>
                  <a:lnTo>
                    <a:pt x="1747" y="433"/>
                  </a:lnTo>
                  <a:lnTo>
                    <a:pt x="1724" y="433"/>
                  </a:lnTo>
                  <a:lnTo>
                    <a:pt x="1694" y="433"/>
                  </a:lnTo>
                  <a:lnTo>
                    <a:pt x="1635" y="433"/>
                  </a:lnTo>
                  <a:lnTo>
                    <a:pt x="1605" y="433"/>
                  </a:lnTo>
                  <a:lnTo>
                    <a:pt x="1575" y="433"/>
                  </a:lnTo>
                  <a:lnTo>
                    <a:pt x="1515" y="433"/>
                  </a:lnTo>
                  <a:lnTo>
                    <a:pt x="1485" y="426"/>
                  </a:lnTo>
                  <a:lnTo>
                    <a:pt x="1463" y="426"/>
                  </a:lnTo>
                  <a:lnTo>
                    <a:pt x="1403" y="426"/>
                  </a:lnTo>
                  <a:lnTo>
                    <a:pt x="1373" y="426"/>
                  </a:lnTo>
                  <a:lnTo>
                    <a:pt x="1344" y="426"/>
                  </a:lnTo>
                  <a:lnTo>
                    <a:pt x="1291" y="418"/>
                  </a:lnTo>
                  <a:lnTo>
                    <a:pt x="1262" y="418"/>
                  </a:lnTo>
                  <a:lnTo>
                    <a:pt x="1232" y="418"/>
                  </a:lnTo>
                  <a:lnTo>
                    <a:pt x="1179" y="411"/>
                  </a:lnTo>
                  <a:lnTo>
                    <a:pt x="1150" y="411"/>
                  </a:lnTo>
                  <a:lnTo>
                    <a:pt x="1120" y="411"/>
                  </a:lnTo>
                  <a:lnTo>
                    <a:pt x="1067" y="403"/>
                  </a:lnTo>
                  <a:lnTo>
                    <a:pt x="1038" y="403"/>
                  </a:lnTo>
                  <a:lnTo>
                    <a:pt x="1015" y="396"/>
                  </a:lnTo>
                  <a:lnTo>
                    <a:pt x="963" y="388"/>
                  </a:lnTo>
                  <a:lnTo>
                    <a:pt x="933" y="388"/>
                  </a:lnTo>
                  <a:lnTo>
                    <a:pt x="911" y="381"/>
                  </a:lnTo>
                  <a:lnTo>
                    <a:pt x="858" y="381"/>
                  </a:lnTo>
                  <a:lnTo>
                    <a:pt x="829" y="373"/>
                  </a:lnTo>
                  <a:lnTo>
                    <a:pt x="806" y="373"/>
                  </a:lnTo>
                  <a:lnTo>
                    <a:pt x="754" y="358"/>
                  </a:lnTo>
                  <a:lnTo>
                    <a:pt x="732" y="358"/>
                  </a:lnTo>
                  <a:lnTo>
                    <a:pt x="709" y="351"/>
                  </a:lnTo>
                  <a:lnTo>
                    <a:pt x="664" y="343"/>
                  </a:lnTo>
                  <a:lnTo>
                    <a:pt x="635" y="343"/>
                  </a:lnTo>
                  <a:lnTo>
                    <a:pt x="612" y="336"/>
                  </a:lnTo>
                  <a:lnTo>
                    <a:pt x="567" y="329"/>
                  </a:lnTo>
                  <a:lnTo>
                    <a:pt x="552" y="321"/>
                  </a:lnTo>
                  <a:lnTo>
                    <a:pt x="530" y="314"/>
                  </a:lnTo>
                  <a:lnTo>
                    <a:pt x="485" y="306"/>
                  </a:lnTo>
                  <a:lnTo>
                    <a:pt x="463" y="299"/>
                  </a:lnTo>
                  <a:lnTo>
                    <a:pt x="448" y="291"/>
                  </a:lnTo>
                  <a:lnTo>
                    <a:pt x="403" y="284"/>
                  </a:lnTo>
                  <a:lnTo>
                    <a:pt x="388" y="276"/>
                  </a:lnTo>
                  <a:lnTo>
                    <a:pt x="366" y="269"/>
                  </a:lnTo>
                  <a:lnTo>
                    <a:pt x="336" y="261"/>
                  </a:lnTo>
                  <a:lnTo>
                    <a:pt x="314" y="254"/>
                  </a:lnTo>
                  <a:lnTo>
                    <a:pt x="299" y="246"/>
                  </a:lnTo>
                  <a:lnTo>
                    <a:pt x="269" y="239"/>
                  </a:lnTo>
                  <a:lnTo>
                    <a:pt x="254" y="232"/>
                  </a:lnTo>
                  <a:lnTo>
                    <a:pt x="239" y="224"/>
                  </a:lnTo>
                  <a:lnTo>
                    <a:pt x="209" y="209"/>
                  </a:lnTo>
                  <a:lnTo>
                    <a:pt x="194" y="202"/>
                  </a:lnTo>
                  <a:lnTo>
                    <a:pt x="179" y="194"/>
                  </a:lnTo>
                  <a:lnTo>
                    <a:pt x="157" y="187"/>
                  </a:lnTo>
                  <a:lnTo>
                    <a:pt x="142" y="179"/>
                  </a:lnTo>
                  <a:lnTo>
                    <a:pt x="127" y="172"/>
                  </a:lnTo>
                  <a:lnTo>
                    <a:pt x="112" y="157"/>
                  </a:lnTo>
                  <a:lnTo>
                    <a:pt x="97" y="150"/>
                  </a:lnTo>
                  <a:lnTo>
                    <a:pt x="90" y="142"/>
                  </a:lnTo>
                  <a:lnTo>
                    <a:pt x="67" y="127"/>
                  </a:lnTo>
                  <a:lnTo>
                    <a:pt x="60" y="120"/>
                  </a:lnTo>
                  <a:lnTo>
                    <a:pt x="52" y="112"/>
                  </a:lnTo>
                  <a:lnTo>
                    <a:pt x="38" y="97"/>
                  </a:lnTo>
                  <a:lnTo>
                    <a:pt x="38" y="90"/>
                  </a:lnTo>
                  <a:lnTo>
                    <a:pt x="30" y="82"/>
                  </a:lnTo>
                  <a:lnTo>
                    <a:pt x="15" y="67"/>
                  </a:lnTo>
                  <a:lnTo>
                    <a:pt x="15" y="60"/>
                  </a:lnTo>
                  <a:lnTo>
                    <a:pt x="8" y="53"/>
                  </a:lnTo>
                  <a:lnTo>
                    <a:pt x="8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463"/>
                  </a:lnTo>
                  <a:lnTo>
                    <a:pt x="0" y="470"/>
                  </a:lnTo>
                  <a:lnTo>
                    <a:pt x="0" y="485"/>
                  </a:lnTo>
                  <a:lnTo>
                    <a:pt x="0" y="493"/>
                  </a:lnTo>
                  <a:lnTo>
                    <a:pt x="8" y="500"/>
                  </a:lnTo>
                  <a:lnTo>
                    <a:pt x="8" y="515"/>
                  </a:lnTo>
                  <a:lnTo>
                    <a:pt x="15" y="522"/>
                  </a:lnTo>
                  <a:lnTo>
                    <a:pt x="15" y="530"/>
                  </a:lnTo>
                  <a:lnTo>
                    <a:pt x="30" y="545"/>
                  </a:lnTo>
                  <a:lnTo>
                    <a:pt x="38" y="552"/>
                  </a:lnTo>
                  <a:lnTo>
                    <a:pt x="38" y="560"/>
                  </a:lnTo>
                  <a:lnTo>
                    <a:pt x="52" y="575"/>
                  </a:lnTo>
                  <a:lnTo>
                    <a:pt x="60" y="582"/>
                  </a:lnTo>
                  <a:lnTo>
                    <a:pt x="67" y="590"/>
                  </a:lnTo>
                  <a:lnTo>
                    <a:pt x="90" y="605"/>
                  </a:lnTo>
                  <a:lnTo>
                    <a:pt x="97" y="612"/>
                  </a:lnTo>
                  <a:lnTo>
                    <a:pt x="112" y="619"/>
                  </a:lnTo>
                  <a:lnTo>
                    <a:pt x="127" y="634"/>
                  </a:lnTo>
                  <a:lnTo>
                    <a:pt x="142" y="642"/>
                  </a:lnTo>
                  <a:lnTo>
                    <a:pt x="157" y="649"/>
                  </a:lnTo>
                  <a:lnTo>
                    <a:pt x="179" y="657"/>
                  </a:lnTo>
                  <a:lnTo>
                    <a:pt x="194" y="664"/>
                  </a:lnTo>
                  <a:lnTo>
                    <a:pt x="209" y="672"/>
                  </a:lnTo>
                  <a:lnTo>
                    <a:pt x="239" y="687"/>
                  </a:lnTo>
                  <a:lnTo>
                    <a:pt x="254" y="694"/>
                  </a:lnTo>
                  <a:lnTo>
                    <a:pt x="269" y="701"/>
                  </a:lnTo>
                  <a:lnTo>
                    <a:pt x="299" y="709"/>
                  </a:lnTo>
                  <a:lnTo>
                    <a:pt x="314" y="716"/>
                  </a:lnTo>
                  <a:lnTo>
                    <a:pt x="336" y="724"/>
                  </a:lnTo>
                  <a:lnTo>
                    <a:pt x="366" y="731"/>
                  </a:lnTo>
                  <a:lnTo>
                    <a:pt x="388" y="739"/>
                  </a:lnTo>
                  <a:lnTo>
                    <a:pt x="403" y="746"/>
                  </a:lnTo>
                  <a:lnTo>
                    <a:pt x="448" y="754"/>
                  </a:lnTo>
                  <a:lnTo>
                    <a:pt x="463" y="761"/>
                  </a:lnTo>
                  <a:lnTo>
                    <a:pt x="485" y="769"/>
                  </a:lnTo>
                  <a:lnTo>
                    <a:pt x="530" y="776"/>
                  </a:lnTo>
                  <a:lnTo>
                    <a:pt x="552" y="784"/>
                  </a:lnTo>
                  <a:lnTo>
                    <a:pt x="567" y="791"/>
                  </a:lnTo>
                  <a:lnTo>
                    <a:pt x="612" y="798"/>
                  </a:lnTo>
                  <a:lnTo>
                    <a:pt x="635" y="806"/>
                  </a:lnTo>
                  <a:lnTo>
                    <a:pt x="664" y="806"/>
                  </a:lnTo>
                  <a:lnTo>
                    <a:pt x="709" y="813"/>
                  </a:lnTo>
                  <a:lnTo>
                    <a:pt x="732" y="821"/>
                  </a:lnTo>
                  <a:lnTo>
                    <a:pt x="754" y="821"/>
                  </a:lnTo>
                  <a:lnTo>
                    <a:pt x="806" y="836"/>
                  </a:lnTo>
                  <a:lnTo>
                    <a:pt x="829" y="836"/>
                  </a:lnTo>
                  <a:lnTo>
                    <a:pt x="858" y="843"/>
                  </a:lnTo>
                  <a:lnTo>
                    <a:pt x="911" y="843"/>
                  </a:lnTo>
                  <a:lnTo>
                    <a:pt x="933" y="851"/>
                  </a:lnTo>
                  <a:lnTo>
                    <a:pt x="963" y="851"/>
                  </a:lnTo>
                  <a:lnTo>
                    <a:pt x="1015" y="858"/>
                  </a:lnTo>
                  <a:lnTo>
                    <a:pt x="1038" y="866"/>
                  </a:lnTo>
                  <a:lnTo>
                    <a:pt x="1067" y="866"/>
                  </a:lnTo>
                  <a:lnTo>
                    <a:pt x="1120" y="873"/>
                  </a:lnTo>
                  <a:lnTo>
                    <a:pt x="1150" y="873"/>
                  </a:lnTo>
                  <a:lnTo>
                    <a:pt x="1179" y="873"/>
                  </a:lnTo>
                  <a:lnTo>
                    <a:pt x="1232" y="880"/>
                  </a:lnTo>
                  <a:lnTo>
                    <a:pt x="1262" y="880"/>
                  </a:lnTo>
                  <a:lnTo>
                    <a:pt x="1291" y="880"/>
                  </a:lnTo>
                  <a:lnTo>
                    <a:pt x="1344" y="888"/>
                  </a:lnTo>
                  <a:lnTo>
                    <a:pt x="1373" y="888"/>
                  </a:lnTo>
                  <a:lnTo>
                    <a:pt x="1403" y="888"/>
                  </a:lnTo>
                  <a:lnTo>
                    <a:pt x="1463" y="888"/>
                  </a:lnTo>
                  <a:lnTo>
                    <a:pt x="1485" y="888"/>
                  </a:lnTo>
                  <a:lnTo>
                    <a:pt x="1515" y="895"/>
                  </a:lnTo>
                  <a:lnTo>
                    <a:pt x="1575" y="895"/>
                  </a:lnTo>
                  <a:lnTo>
                    <a:pt x="1605" y="895"/>
                  </a:lnTo>
                  <a:lnTo>
                    <a:pt x="1635" y="895"/>
                  </a:lnTo>
                  <a:lnTo>
                    <a:pt x="1694" y="895"/>
                  </a:lnTo>
                  <a:lnTo>
                    <a:pt x="1724" y="895"/>
                  </a:lnTo>
                  <a:lnTo>
                    <a:pt x="1747" y="895"/>
                  </a:lnTo>
                  <a:lnTo>
                    <a:pt x="1806" y="895"/>
                  </a:lnTo>
                  <a:lnTo>
                    <a:pt x="1836" y="888"/>
                  </a:lnTo>
                  <a:lnTo>
                    <a:pt x="1866" y="888"/>
                  </a:lnTo>
                  <a:lnTo>
                    <a:pt x="1926" y="888"/>
                  </a:lnTo>
                  <a:lnTo>
                    <a:pt x="1948" y="888"/>
                  </a:lnTo>
                  <a:lnTo>
                    <a:pt x="1978" y="888"/>
                  </a:lnTo>
                  <a:lnTo>
                    <a:pt x="2038" y="880"/>
                  </a:lnTo>
                  <a:lnTo>
                    <a:pt x="2068" y="880"/>
                  </a:lnTo>
                  <a:lnTo>
                    <a:pt x="2090" y="880"/>
                  </a:lnTo>
                  <a:lnTo>
                    <a:pt x="2150" y="873"/>
                  </a:lnTo>
                  <a:lnTo>
                    <a:pt x="2180" y="873"/>
                  </a:lnTo>
                  <a:lnTo>
                    <a:pt x="2202" y="873"/>
                  </a:lnTo>
                  <a:lnTo>
                    <a:pt x="2262" y="866"/>
                  </a:lnTo>
                  <a:lnTo>
                    <a:pt x="2284" y="866"/>
                  </a:lnTo>
                  <a:lnTo>
                    <a:pt x="2314" y="858"/>
                  </a:lnTo>
                  <a:lnTo>
                    <a:pt x="2366" y="851"/>
                  </a:lnTo>
                  <a:lnTo>
                    <a:pt x="2396" y="851"/>
                  </a:lnTo>
                  <a:lnTo>
                    <a:pt x="2418" y="843"/>
                  </a:lnTo>
                  <a:lnTo>
                    <a:pt x="2471" y="843"/>
                  </a:lnTo>
                  <a:lnTo>
                    <a:pt x="2493" y="836"/>
                  </a:lnTo>
                  <a:lnTo>
                    <a:pt x="2523" y="836"/>
                  </a:lnTo>
                  <a:lnTo>
                    <a:pt x="2568" y="821"/>
                  </a:lnTo>
                  <a:lnTo>
                    <a:pt x="2590" y="821"/>
                  </a:lnTo>
                  <a:lnTo>
                    <a:pt x="2620" y="813"/>
                  </a:lnTo>
                  <a:lnTo>
                    <a:pt x="2665" y="806"/>
                  </a:lnTo>
                  <a:lnTo>
                    <a:pt x="2687" y="806"/>
                  </a:lnTo>
                  <a:lnTo>
                    <a:pt x="2709" y="798"/>
                  </a:lnTo>
                  <a:lnTo>
                    <a:pt x="2754" y="791"/>
                  </a:lnTo>
                  <a:lnTo>
                    <a:pt x="2777" y="784"/>
                  </a:lnTo>
                  <a:lnTo>
                    <a:pt x="2799" y="776"/>
                  </a:lnTo>
                  <a:lnTo>
                    <a:pt x="2836" y="769"/>
                  </a:lnTo>
                  <a:lnTo>
                    <a:pt x="2859" y="761"/>
                  </a:lnTo>
                  <a:lnTo>
                    <a:pt x="2881" y="754"/>
                  </a:lnTo>
                  <a:lnTo>
                    <a:pt x="2918" y="746"/>
                  </a:lnTo>
                  <a:lnTo>
                    <a:pt x="2941" y="739"/>
                  </a:lnTo>
                  <a:lnTo>
                    <a:pt x="2956" y="731"/>
                  </a:lnTo>
                  <a:lnTo>
                    <a:pt x="2993" y="724"/>
                  </a:lnTo>
                  <a:lnTo>
                    <a:pt x="3008" y="716"/>
                  </a:lnTo>
                  <a:lnTo>
                    <a:pt x="3023" y="709"/>
                  </a:lnTo>
                  <a:lnTo>
                    <a:pt x="3060" y="701"/>
                  </a:lnTo>
                  <a:lnTo>
                    <a:pt x="3075" y="694"/>
                  </a:lnTo>
                  <a:lnTo>
                    <a:pt x="3090" y="687"/>
                  </a:lnTo>
                  <a:lnTo>
                    <a:pt x="3120" y="672"/>
                  </a:lnTo>
                  <a:lnTo>
                    <a:pt x="3135" y="664"/>
                  </a:lnTo>
                  <a:lnTo>
                    <a:pt x="3142" y="657"/>
                  </a:lnTo>
                  <a:lnTo>
                    <a:pt x="3172" y="649"/>
                  </a:lnTo>
                  <a:lnTo>
                    <a:pt x="3180" y="642"/>
                  </a:lnTo>
                  <a:lnTo>
                    <a:pt x="3195" y="634"/>
                  </a:lnTo>
                  <a:lnTo>
                    <a:pt x="3217" y="619"/>
                  </a:lnTo>
                  <a:lnTo>
                    <a:pt x="3224" y="612"/>
                  </a:lnTo>
                  <a:lnTo>
                    <a:pt x="3239" y="605"/>
                  </a:lnTo>
                  <a:lnTo>
                    <a:pt x="3254" y="590"/>
                  </a:lnTo>
                  <a:lnTo>
                    <a:pt x="3262" y="582"/>
                  </a:lnTo>
                  <a:lnTo>
                    <a:pt x="3269" y="575"/>
                  </a:lnTo>
                  <a:lnTo>
                    <a:pt x="3284" y="560"/>
                  </a:lnTo>
                  <a:lnTo>
                    <a:pt x="3292" y="552"/>
                  </a:lnTo>
                  <a:lnTo>
                    <a:pt x="3299" y="545"/>
                  </a:lnTo>
                  <a:lnTo>
                    <a:pt x="3306" y="530"/>
                  </a:lnTo>
                  <a:lnTo>
                    <a:pt x="3314" y="522"/>
                  </a:lnTo>
                  <a:lnTo>
                    <a:pt x="3314" y="515"/>
                  </a:lnTo>
                  <a:lnTo>
                    <a:pt x="3321" y="500"/>
                  </a:lnTo>
                  <a:lnTo>
                    <a:pt x="3321" y="493"/>
                  </a:lnTo>
                  <a:lnTo>
                    <a:pt x="3321" y="485"/>
                  </a:lnTo>
                  <a:lnTo>
                    <a:pt x="3329" y="470"/>
                  </a:lnTo>
                  <a:lnTo>
                    <a:pt x="3329" y="463"/>
                  </a:lnTo>
                  <a:lnTo>
                    <a:pt x="3329" y="0"/>
                  </a:lnTo>
                  <a:close/>
                </a:path>
              </a:pathLst>
            </a:custGeom>
            <a:solidFill>
              <a:srgbClr val="8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17720" y="3865680"/>
              <a:ext cx="5284800" cy="898560"/>
            </a:xfrm>
            <a:custGeom>
              <a:avLst/>
              <a:gdLst/>
              <a:ahLst/>
              <a:rect l="l" t="t" r="r" b="b"/>
              <a:pathLst>
                <a:path w="3329" h="566">
                  <a:moveTo>
                    <a:pt x="3247" y="0"/>
                  </a:moveTo>
                  <a:lnTo>
                    <a:pt x="3254" y="7"/>
                  </a:lnTo>
                  <a:lnTo>
                    <a:pt x="3269" y="22"/>
                  </a:lnTo>
                  <a:lnTo>
                    <a:pt x="3277" y="29"/>
                  </a:lnTo>
                  <a:lnTo>
                    <a:pt x="3284" y="37"/>
                  </a:lnTo>
                  <a:lnTo>
                    <a:pt x="3299" y="52"/>
                  </a:lnTo>
                  <a:lnTo>
                    <a:pt x="3299" y="59"/>
                  </a:lnTo>
                  <a:lnTo>
                    <a:pt x="3306" y="67"/>
                  </a:lnTo>
                  <a:lnTo>
                    <a:pt x="3314" y="82"/>
                  </a:lnTo>
                  <a:lnTo>
                    <a:pt x="3321" y="89"/>
                  </a:lnTo>
                  <a:lnTo>
                    <a:pt x="3321" y="97"/>
                  </a:lnTo>
                  <a:lnTo>
                    <a:pt x="3321" y="104"/>
                  </a:lnTo>
                  <a:lnTo>
                    <a:pt x="3329" y="119"/>
                  </a:lnTo>
                  <a:lnTo>
                    <a:pt x="3329" y="126"/>
                  </a:lnTo>
                  <a:lnTo>
                    <a:pt x="3329" y="134"/>
                  </a:lnTo>
                  <a:lnTo>
                    <a:pt x="3329" y="149"/>
                  </a:lnTo>
                  <a:lnTo>
                    <a:pt x="3321" y="156"/>
                  </a:lnTo>
                  <a:lnTo>
                    <a:pt x="3321" y="164"/>
                  </a:lnTo>
                  <a:lnTo>
                    <a:pt x="3321" y="179"/>
                  </a:lnTo>
                  <a:lnTo>
                    <a:pt x="3314" y="186"/>
                  </a:lnTo>
                  <a:lnTo>
                    <a:pt x="3314" y="193"/>
                  </a:lnTo>
                  <a:lnTo>
                    <a:pt x="3299" y="208"/>
                  </a:lnTo>
                  <a:lnTo>
                    <a:pt x="3299" y="216"/>
                  </a:lnTo>
                  <a:lnTo>
                    <a:pt x="3292" y="223"/>
                  </a:lnTo>
                  <a:lnTo>
                    <a:pt x="3277" y="238"/>
                  </a:lnTo>
                  <a:lnTo>
                    <a:pt x="3269" y="246"/>
                  </a:lnTo>
                  <a:lnTo>
                    <a:pt x="3262" y="253"/>
                  </a:lnTo>
                  <a:lnTo>
                    <a:pt x="3254" y="261"/>
                  </a:lnTo>
                  <a:lnTo>
                    <a:pt x="3239" y="276"/>
                  </a:lnTo>
                  <a:lnTo>
                    <a:pt x="3224" y="283"/>
                  </a:lnTo>
                  <a:lnTo>
                    <a:pt x="3217" y="290"/>
                  </a:lnTo>
                  <a:lnTo>
                    <a:pt x="3195" y="298"/>
                  </a:lnTo>
                  <a:lnTo>
                    <a:pt x="3180" y="305"/>
                  </a:lnTo>
                  <a:lnTo>
                    <a:pt x="3172" y="313"/>
                  </a:lnTo>
                  <a:lnTo>
                    <a:pt x="3142" y="328"/>
                  </a:lnTo>
                  <a:lnTo>
                    <a:pt x="3135" y="335"/>
                  </a:lnTo>
                  <a:lnTo>
                    <a:pt x="3120" y="343"/>
                  </a:lnTo>
                  <a:lnTo>
                    <a:pt x="3090" y="358"/>
                  </a:lnTo>
                  <a:lnTo>
                    <a:pt x="3075" y="358"/>
                  </a:lnTo>
                  <a:lnTo>
                    <a:pt x="3060" y="365"/>
                  </a:lnTo>
                  <a:lnTo>
                    <a:pt x="3023" y="380"/>
                  </a:lnTo>
                  <a:lnTo>
                    <a:pt x="3008" y="387"/>
                  </a:lnTo>
                  <a:lnTo>
                    <a:pt x="2993" y="395"/>
                  </a:lnTo>
                  <a:lnTo>
                    <a:pt x="2956" y="402"/>
                  </a:lnTo>
                  <a:lnTo>
                    <a:pt x="2941" y="410"/>
                  </a:lnTo>
                  <a:lnTo>
                    <a:pt x="2918" y="417"/>
                  </a:lnTo>
                  <a:lnTo>
                    <a:pt x="2896" y="425"/>
                  </a:lnTo>
                  <a:lnTo>
                    <a:pt x="2859" y="432"/>
                  </a:lnTo>
                  <a:lnTo>
                    <a:pt x="2836" y="440"/>
                  </a:lnTo>
                  <a:lnTo>
                    <a:pt x="2821" y="440"/>
                  </a:lnTo>
                  <a:lnTo>
                    <a:pt x="2777" y="455"/>
                  </a:lnTo>
                  <a:lnTo>
                    <a:pt x="2754" y="462"/>
                  </a:lnTo>
                  <a:lnTo>
                    <a:pt x="2732" y="462"/>
                  </a:lnTo>
                  <a:lnTo>
                    <a:pt x="2687" y="469"/>
                  </a:lnTo>
                  <a:lnTo>
                    <a:pt x="2665" y="477"/>
                  </a:lnTo>
                  <a:lnTo>
                    <a:pt x="2642" y="484"/>
                  </a:lnTo>
                  <a:lnTo>
                    <a:pt x="2590" y="492"/>
                  </a:lnTo>
                  <a:lnTo>
                    <a:pt x="2568" y="492"/>
                  </a:lnTo>
                  <a:lnTo>
                    <a:pt x="2545" y="499"/>
                  </a:lnTo>
                  <a:lnTo>
                    <a:pt x="2493" y="507"/>
                  </a:lnTo>
                  <a:lnTo>
                    <a:pt x="2471" y="507"/>
                  </a:lnTo>
                  <a:lnTo>
                    <a:pt x="2441" y="514"/>
                  </a:lnTo>
                  <a:lnTo>
                    <a:pt x="2418" y="514"/>
                  </a:lnTo>
                  <a:lnTo>
                    <a:pt x="2366" y="522"/>
                  </a:lnTo>
                  <a:lnTo>
                    <a:pt x="2336" y="529"/>
                  </a:lnTo>
                  <a:lnTo>
                    <a:pt x="2314" y="529"/>
                  </a:lnTo>
                  <a:lnTo>
                    <a:pt x="2262" y="537"/>
                  </a:lnTo>
                  <a:lnTo>
                    <a:pt x="2232" y="537"/>
                  </a:lnTo>
                  <a:lnTo>
                    <a:pt x="2202" y="544"/>
                  </a:lnTo>
                  <a:lnTo>
                    <a:pt x="2150" y="544"/>
                  </a:lnTo>
                  <a:lnTo>
                    <a:pt x="2120" y="552"/>
                  </a:lnTo>
                  <a:lnTo>
                    <a:pt x="2090" y="552"/>
                  </a:lnTo>
                  <a:lnTo>
                    <a:pt x="2038" y="552"/>
                  </a:lnTo>
                  <a:lnTo>
                    <a:pt x="2008" y="552"/>
                  </a:lnTo>
                  <a:lnTo>
                    <a:pt x="1978" y="559"/>
                  </a:lnTo>
                  <a:lnTo>
                    <a:pt x="1926" y="559"/>
                  </a:lnTo>
                  <a:lnTo>
                    <a:pt x="1896" y="559"/>
                  </a:lnTo>
                  <a:lnTo>
                    <a:pt x="1866" y="559"/>
                  </a:lnTo>
                  <a:lnTo>
                    <a:pt x="1806" y="566"/>
                  </a:lnTo>
                  <a:lnTo>
                    <a:pt x="1776" y="566"/>
                  </a:lnTo>
                  <a:lnTo>
                    <a:pt x="1747" y="566"/>
                  </a:lnTo>
                  <a:lnTo>
                    <a:pt x="1724" y="566"/>
                  </a:lnTo>
                  <a:lnTo>
                    <a:pt x="1665" y="566"/>
                  </a:lnTo>
                  <a:lnTo>
                    <a:pt x="1635" y="566"/>
                  </a:lnTo>
                  <a:lnTo>
                    <a:pt x="1605" y="566"/>
                  </a:lnTo>
                  <a:lnTo>
                    <a:pt x="1545" y="566"/>
                  </a:lnTo>
                  <a:lnTo>
                    <a:pt x="1515" y="566"/>
                  </a:lnTo>
                  <a:lnTo>
                    <a:pt x="1485" y="559"/>
                  </a:lnTo>
                  <a:lnTo>
                    <a:pt x="1433" y="559"/>
                  </a:lnTo>
                  <a:lnTo>
                    <a:pt x="1403" y="559"/>
                  </a:lnTo>
                  <a:lnTo>
                    <a:pt x="1373" y="559"/>
                  </a:lnTo>
                  <a:lnTo>
                    <a:pt x="1314" y="552"/>
                  </a:lnTo>
                  <a:lnTo>
                    <a:pt x="1291" y="552"/>
                  </a:lnTo>
                  <a:lnTo>
                    <a:pt x="1262" y="552"/>
                  </a:lnTo>
                  <a:lnTo>
                    <a:pt x="1202" y="552"/>
                  </a:lnTo>
                  <a:lnTo>
                    <a:pt x="1179" y="544"/>
                  </a:lnTo>
                  <a:lnTo>
                    <a:pt x="1150" y="544"/>
                  </a:lnTo>
                  <a:lnTo>
                    <a:pt x="1120" y="544"/>
                  </a:lnTo>
                  <a:lnTo>
                    <a:pt x="1067" y="537"/>
                  </a:lnTo>
                  <a:lnTo>
                    <a:pt x="1038" y="537"/>
                  </a:lnTo>
                  <a:lnTo>
                    <a:pt x="1015" y="529"/>
                  </a:lnTo>
                  <a:lnTo>
                    <a:pt x="963" y="522"/>
                  </a:lnTo>
                  <a:lnTo>
                    <a:pt x="933" y="522"/>
                  </a:lnTo>
                  <a:lnTo>
                    <a:pt x="911" y="514"/>
                  </a:lnTo>
                  <a:lnTo>
                    <a:pt x="858" y="507"/>
                  </a:lnTo>
                  <a:lnTo>
                    <a:pt x="829" y="507"/>
                  </a:lnTo>
                  <a:lnTo>
                    <a:pt x="806" y="499"/>
                  </a:lnTo>
                  <a:lnTo>
                    <a:pt x="754" y="492"/>
                  </a:lnTo>
                  <a:lnTo>
                    <a:pt x="732" y="492"/>
                  </a:lnTo>
                  <a:lnTo>
                    <a:pt x="709" y="484"/>
                  </a:lnTo>
                  <a:lnTo>
                    <a:pt x="664" y="477"/>
                  </a:lnTo>
                  <a:lnTo>
                    <a:pt x="635" y="469"/>
                  </a:lnTo>
                  <a:lnTo>
                    <a:pt x="612" y="469"/>
                  </a:lnTo>
                  <a:lnTo>
                    <a:pt x="590" y="462"/>
                  </a:lnTo>
                  <a:lnTo>
                    <a:pt x="552" y="455"/>
                  </a:lnTo>
                  <a:lnTo>
                    <a:pt x="530" y="447"/>
                  </a:lnTo>
                  <a:lnTo>
                    <a:pt x="508" y="440"/>
                  </a:lnTo>
                  <a:lnTo>
                    <a:pt x="463" y="432"/>
                  </a:lnTo>
                  <a:lnTo>
                    <a:pt x="448" y="425"/>
                  </a:lnTo>
                  <a:lnTo>
                    <a:pt x="426" y="425"/>
                  </a:lnTo>
                  <a:lnTo>
                    <a:pt x="388" y="410"/>
                  </a:lnTo>
                  <a:lnTo>
                    <a:pt x="366" y="402"/>
                  </a:lnTo>
                  <a:lnTo>
                    <a:pt x="351" y="395"/>
                  </a:lnTo>
                  <a:lnTo>
                    <a:pt x="314" y="387"/>
                  </a:lnTo>
                  <a:lnTo>
                    <a:pt x="299" y="380"/>
                  </a:lnTo>
                  <a:lnTo>
                    <a:pt x="284" y="372"/>
                  </a:lnTo>
                  <a:lnTo>
                    <a:pt x="254" y="358"/>
                  </a:lnTo>
                  <a:lnTo>
                    <a:pt x="239" y="358"/>
                  </a:lnTo>
                  <a:lnTo>
                    <a:pt x="224" y="350"/>
                  </a:lnTo>
                  <a:lnTo>
                    <a:pt x="194" y="335"/>
                  </a:lnTo>
                  <a:lnTo>
                    <a:pt x="179" y="328"/>
                  </a:lnTo>
                  <a:lnTo>
                    <a:pt x="164" y="320"/>
                  </a:lnTo>
                  <a:lnTo>
                    <a:pt x="157" y="313"/>
                  </a:lnTo>
                  <a:lnTo>
                    <a:pt x="127" y="298"/>
                  </a:lnTo>
                  <a:lnTo>
                    <a:pt x="120" y="290"/>
                  </a:lnTo>
                  <a:lnTo>
                    <a:pt x="112" y="290"/>
                  </a:lnTo>
                  <a:lnTo>
                    <a:pt x="90" y="276"/>
                  </a:lnTo>
                  <a:lnTo>
                    <a:pt x="82" y="268"/>
                  </a:lnTo>
                  <a:lnTo>
                    <a:pt x="67" y="261"/>
                  </a:lnTo>
                  <a:lnTo>
                    <a:pt x="52" y="246"/>
                  </a:lnTo>
                  <a:lnTo>
                    <a:pt x="45" y="238"/>
                  </a:lnTo>
                  <a:lnTo>
                    <a:pt x="38" y="231"/>
                  </a:lnTo>
                  <a:lnTo>
                    <a:pt x="30" y="216"/>
                  </a:lnTo>
                  <a:lnTo>
                    <a:pt x="23" y="208"/>
                  </a:lnTo>
                  <a:lnTo>
                    <a:pt x="15" y="201"/>
                  </a:lnTo>
                  <a:lnTo>
                    <a:pt x="8" y="186"/>
                  </a:lnTo>
                  <a:lnTo>
                    <a:pt x="8" y="179"/>
                  </a:lnTo>
                  <a:lnTo>
                    <a:pt x="8" y="171"/>
                  </a:lnTo>
                  <a:lnTo>
                    <a:pt x="0" y="164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0" y="134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8" y="89"/>
                  </a:lnTo>
                  <a:lnTo>
                    <a:pt x="8" y="82"/>
                  </a:lnTo>
                  <a:lnTo>
                    <a:pt x="1665" y="134"/>
                  </a:lnTo>
                  <a:lnTo>
                    <a:pt x="3247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48800" y="1555920"/>
              <a:ext cx="5820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Verdana"/>
                </a:rPr>
                <a:t>Distribución de Abonados Móviles por Región</a:t>
              </a:r>
              <a:r>
                <a:rPr b="1" lang="en-US" sz="22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30640" y="1898640"/>
              <a:ext cx="4598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Verdana"/>
                </a:rPr>
                <a:t>(Diciembre de 2000: 3.401.525 abonad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21120" y="5546880"/>
              <a:ext cx="23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12400" y="573552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58,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23800" y="37227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76560" y="39117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6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05600" y="321300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67000" y="34034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3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36520" y="300024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963800" y="318924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7,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716200" y="28353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568600" y="30243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3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334680" y="2705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160800" y="28940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4,2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936960" y="26575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87920" y="28465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3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04400" y="257508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64000" y="27637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7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073120" y="26208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878360" y="281160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85320" y="261000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16840" y="27986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57560" y="268128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95920" y="287028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9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83240" y="28591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336000" y="30481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47720" y="3119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79960" y="33084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9,5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50880" y="5961240"/>
              <a:ext cx="16462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54200" y="59850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MÓV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557" name=""/>
          <p:cNvGrpSpPr/>
          <p:nvPr/>
        </p:nvGrpSpPr>
        <p:grpSpPr>
          <a:xfrm>
            <a:off x="673200" y="1352520"/>
            <a:ext cx="8089920" cy="5132520"/>
            <a:chOff x="673200" y="1352520"/>
            <a:chExt cx="8089920" cy="5132520"/>
          </a:xfrm>
        </p:grpSpPr>
        <p:grpSp>
          <p:nvGrpSpPr>
            <p:cNvPr id="558" name=""/>
            <p:cNvGrpSpPr/>
            <p:nvPr/>
          </p:nvGrpSpPr>
          <p:grpSpPr>
            <a:xfrm>
              <a:off x="1557360" y="2349360"/>
              <a:ext cx="6800760" cy="2874960"/>
              <a:chOff x="1557360" y="2349360"/>
              <a:chExt cx="6800760" cy="2874960"/>
            </a:xfrm>
          </p:grpSpPr>
          <p:sp>
            <p:nvSpPr>
              <p:cNvPr id="559" name=""/>
              <p:cNvSpPr/>
              <p:nvPr/>
            </p:nvSpPr>
            <p:spPr>
              <a:xfrm>
                <a:off x="1557360" y="2349360"/>
                <a:ext cx="6800760" cy="9216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57360" y="2441520"/>
                <a:ext cx="6800760" cy="9072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557360" y="2532240"/>
                <a:ext cx="6800760" cy="91800"/>
              </a:xfrm>
              <a:prstGeom prst="rect">
                <a:avLst/>
              </a:prstGeom>
              <a:solidFill>
                <a:srgbClr val="98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557360" y="2624040"/>
                <a:ext cx="6800760" cy="81000"/>
              </a:xfrm>
              <a:prstGeom prst="rect">
                <a:avLst/>
              </a:prstGeom>
              <a:solidFill>
                <a:srgbClr val="97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557360" y="2705040"/>
                <a:ext cx="6800760" cy="90720"/>
              </a:xfrm>
              <a:prstGeom prst="rect">
                <a:avLst/>
              </a:prstGeom>
              <a:solidFill>
                <a:srgbClr val="97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557360" y="2795760"/>
                <a:ext cx="6800760" cy="91800"/>
              </a:xfrm>
              <a:prstGeom prst="rect">
                <a:avLst/>
              </a:prstGeom>
              <a:solidFill>
                <a:srgbClr val="96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557360" y="2887560"/>
                <a:ext cx="6800760" cy="92160"/>
              </a:xfrm>
              <a:prstGeom prst="rect">
                <a:avLst/>
              </a:prstGeom>
              <a:solidFill>
                <a:srgbClr val="96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557360" y="2979720"/>
                <a:ext cx="6800760" cy="90360"/>
              </a:xfrm>
              <a:prstGeom prst="rect">
                <a:avLst/>
              </a:prstGeom>
              <a:solidFill>
                <a:srgbClr val="95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557360" y="3070080"/>
                <a:ext cx="6800760" cy="92160"/>
              </a:xfrm>
              <a:prstGeom prst="rect">
                <a:avLst/>
              </a:prstGeom>
              <a:solidFill>
                <a:srgbClr val="94c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557360" y="3162240"/>
                <a:ext cx="6800760" cy="81000"/>
              </a:xfrm>
              <a:prstGeom prst="rect">
                <a:avLst/>
              </a:prstGeom>
              <a:solidFill>
                <a:srgbClr val="93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57360" y="3243240"/>
                <a:ext cx="6800760" cy="90360"/>
              </a:xfrm>
              <a:prstGeom prst="rect">
                <a:avLst/>
              </a:prstGeom>
              <a:solidFill>
                <a:srgbClr val="92c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557360" y="3333600"/>
                <a:ext cx="6800760" cy="92160"/>
              </a:xfrm>
              <a:prstGeom prst="rect">
                <a:avLst/>
              </a:prstGeom>
              <a:solidFill>
                <a:srgbClr val="9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557360" y="3425760"/>
                <a:ext cx="6800760" cy="92160"/>
              </a:xfrm>
              <a:prstGeom prst="rect">
                <a:avLst/>
              </a:prstGeom>
              <a:solidFill>
                <a:srgbClr val="8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557360" y="3517920"/>
                <a:ext cx="6800760" cy="92160"/>
              </a:xfrm>
              <a:prstGeom prst="rect">
                <a:avLst/>
              </a:prstGeom>
              <a:solidFill>
                <a:srgbClr val="8e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557360" y="3610080"/>
                <a:ext cx="6800760" cy="90360"/>
              </a:xfrm>
              <a:prstGeom prst="rect">
                <a:avLst/>
              </a:prstGeom>
              <a:solidFill>
                <a:srgbClr val="8c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557360" y="3700440"/>
                <a:ext cx="6800760" cy="81000"/>
              </a:xfrm>
              <a:prstGeom prst="rect">
                <a:avLst/>
              </a:prstGeom>
              <a:solidFill>
                <a:srgbClr val="8bb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557360" y="3781440"/>
                <a:ext cx="6800760" cy="92160"/>
              </a:xfrm>
              <a:prstGeom prst="rect">
                <a:avLst/>
              </a:prstGeom>
              <a:solidFill>
                <a:srgbClr val="89b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557360" y="3873600"/>
                <a:ext cx="6800760" cy="90360"/>
              </a:xfrm>
              <a:prstGeom prst="rect">
                <a:avLst/>
              </a:prstGeom>
              <a:solidFill>
                <a:srgbClr val="88b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557360" y="3963960"/>
                <a:ext cx="6800760" cy="92160"/>
              </a:xfrm>
              <a:prstGeom prst="rect">
                <a:avLst/>
              </a:prstGeom>
              <a:solidFill>
                <a:srgbClr val="86b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557360" y="4056120"/>
                <a:ext cx="6800760" cy="92160"/>
              </a:xfrm>
              <a:prstGeom prst="rect">
                <a:avLst/>
              </a:prstGeom>
              <a:solidFill>
                <a:srgbClr val="84b1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557360" y="4148280"/>
                <a:ext cx="6800760" cy="90360"/>
              </a:xfrm>
              <a:prstGeom prst="rect">
                <a:avLst/>
              </a:prstGeom>
              <a:solidFill>
                <a:srgbClr val="83a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557360" y="4238640"/>
                <a:ext cx="6800760" cy="92160"/>
              </a:xfrm>
              <a:prstGeom prst="rect">
                <a:avLst/>
              </a:prstGeom>
              <a:solidFill>
                <a:srgbClr val="81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557360" y="4330800"/>
                <a:ext cx="6800760" cy="81000"/>
              </a:xfrm>
              <a:prstGeom prst="rect">
                <a:avLst/>
              </a:prstGeom>
              <a:solidFill>
                <a:srgbClr val="80a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557360" y="4411800"/>
                <a:ext cx="6800760" cy="90360"/>
              </a:xfrm>
              <a:prstGeom prst="rect">
                <a:avLst/>
              </a:prstGeom>
              <a:solidFill>
                <a:srgbClr val="7fa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557360" y="4502160"/>
                <a:ext cx="6800760" cy="92160"/>
              </a:xfrm>
              <a:prstGeom prst="rect">
                <a:avLst/>
              </a:prstGeom>
              <a:solidFill>
                <a:srgbClr val="7ea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557360" y="4594320"/>
                <a:ext cx="6800760" cy="92160"/>
              </a:xfrm>
              <a:prstGeom prst="rect">
                <a:avLst/>
              </a:prstGeom>
              <a:solidFill>
                <a:srgbClr val="7da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557360" y="4686480"/>
                <a:ext cx="6800760" cy="9180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557360" y="4778280"/>
                <a:ext cx="6800760" cy="90720"/>
              </a:xfrm>
              <a:prstGeom prst="rect">
                <a:avLst/>
              </a:prstGeom>
              <a:solidFill>
                <a:srgbClr val="7ba5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557360" y="4869000"/>
                <a:ext cx="6800760" cy="81000"/>
              </a:xfrm>
              <a:prstGeom prst="rect">
                <a:avLst/>
              </a:pr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557360" y="4950000"/>
                <a:ext cx="6800760" cy="91800"/>
              </a:xfrm>
              <a:prstGeom prst="rect">
                <a:avLst/>
              </a:prstGeom>
              <a:solidFill>
                <a:srgbClr val="7aa4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557360" y="5041800"/>
                <a:ext cx="6800760" cy="9072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557360" y="5132520"/>
                <a:ext cx="6800760" cy="9180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557360" y="481176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57360" y="439884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57360" y="39877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57360" y="358632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557360" y="317340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557360" y="276228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57360" y="234936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2163600" y="3462480"/>
              <a:ext cx="218880" cy="1794960"/>
              <a:chOff x="2163600" y="3462480"/>
              <a:chExt cx="218880" cy="1794960"/>
            </a:xfrm>
          </p:grpSpPr>
          <p:sp>
            <p:nvSpPr>
              <p:cNvPr id="601" name=""/>
              <p:cNvSpPr/>
              <p:nvPr/>
            </p:nvSpPr>
            <p:spPr>
              <a:xfrm>
                <a:off x="216360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18664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19816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22120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232720" y="3462480"/>
                <a:ext cx="2304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55760" y="3462480"/>
                <a:ext cx="11160" cy="17949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267280" y="3462480"/>
                <a:ext cx="23040" cy="17949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290680" y="3462480"/>
                <a:ext cx="2268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31336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32488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34792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35944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2163600" y="3483000"/>
              <a:ext cx="241560" cy="17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2657520" y="4267080"/>
              <a:ext cx="218520" cy="960120"/>
              <a:chOff x="2657520" y="4267080"/>
              <a:chExt cx="218520" cy="960120"/>
            </a:xfrm>
          </p:grpSpPr>
          <p:sp>
            <p:nvSpPr>
              <p:cNvPr id="615" name=""/>
              <p:cNvSpPr/>
              <p:nvPr/>
            </p:nvSpPr>
            <p:spPr>
              <a:xfrm>
                <a:off x="2657520" y="4267080"/>
                <a:ext cx="11880" cy="9601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69400" y="4267080"/>
                <a:ext cx="24480" cy="96012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694240" y="4267080"/>
                <a:ext cx="11880" cy="9601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706480" y="4267080"/>
                <a:ext cx="24480" cy="96012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730960" y="4267080"/>
                <a:ext cx="11880" cy="96012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743200" y="4267080"/>
                <a:ext cx="22680" cy="96012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766240" y="4267080"/>
                <a:ext cx="11880" cy="96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778120" y="4267080"/>
                <a:ext cx="24480" cy="96012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802960" y="4267080"/>
                <a:ext cx="11880" cy="96012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815200" y="4267080"/>
                <a:ext cx="24480" cy="96012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839680" y="4267080"/>
                <a:ext cx="11880" cy="96012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51920" y="4267080"/>
                <a:ext cx="24120" cy="96012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3137040" y="3813120"/>
              <a:ext cx="215280" cy="1444320"/>
              <a:chOff x="3137040" y="3813120"/>
              <a:chExt cx="215280" cy="1444320"/>
            </a:xfrm>
          </p:grpSpPr>
          <p:sp>
            <p:nvSpPr>
              <p:cNvPr id="628" name=""/>
              <p:cNvSpPr/>
              <p:nvPr/>
            </p:nvSpPr>
            <p:spPr>
              <a:xfrm>
                <a:off x="3137040" y="3813120"/>
                <a:ext cx="22320" cy="14443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159360" y="3813120"/>
                <a:ext cx="11160" cy="14443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170520" y="3813120"/>
                <a:ext cx="22680" cy="14443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193560" y="3813120"/>
                <a:ext cx="11160" cy="14443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204720" y="3813120"/>
                <a:ext cx="22680" cy="14443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227760" y="3813120"/>
                <a:ext cx="11160" cy="144432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238920" y="3813120"/>
                <a:ext cx="22680" cy="14443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261600" y="3813120"/>
                <a:ext cx="22320" cy="14443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284280" y="3813120"/>
                <a:ext cx="11520" cy="14443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295800" y="3813120"/>
                <a:ext cx="22320" cy="14443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318480" y="3813120"/>
                <a:ext cx="11160" cy="14443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329640" y="3813120"/>
                <a:ext cx="22680" cy="14443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630600" y="3567240"/>
              <a:ext cx="218880" cy="1690560"/>
              <a:chOff x="3630600" y="3567240"/>
              <a:chExt cx="218880" cy="1690560"/>
            </a:xfrm>
          </p:grpSpPr>
          <p:sp>
            <p:nvSpPr>
              <p:cNvPr id="641" name=""/>
              <p:cNvSpPr/>
              <p:nvPr/>
            </p:nvSpPr>
            <p:spPr>
              <a:xfrm>
                <a:off x="3630600" y="3567240"/>
                <a:ext cx="11880" cy="16905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642480" y="3567240"/>
                <a:ext cx="24480" cy="16905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667320" y="3567240"/>
                <a:ext cx="11880" cy="16905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679560" y="3567240"/>
                <a:ext cx="24480" cy="16905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704040" y="3567240"/>
                <a:ext cx="11880" cy="16905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716280" y="3567240"/>
                <a:ext cx="24480" cy="16905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740760" y="3567240"/>
                <a:ext cx="10080" cy="16905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751200" y="3567240"/>
                <a:ext cx="24480" cy="16905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776040" y="3567240"/>
                <a:ext cx="11880" cy="16905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788280" y="3567240"/>
                <a:ext cx="24480" cy="16905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812760" y="3567240"/>
                <a:ext cx="11880" cy="16905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825000" y="3567240"/>
                <a:ext cx="24480" cy="16905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4110120" y="2590920"/>
              <a:ext cx="218520" cy="2650680"/>
              <a:chOff x="4110120" y="2590920"/>
              <a:chExt cx="218520" cy="2650680"/>
            </a:xfrm>
          </p:grpSpPr>
          <p:sp>
            <p:nvSpPr>
              <p:cNvPr id="654" name=""/>
              <p:cNvSpPr/>
              <p:nvPr/>
            </p:nvSpPr>
            <p:spPr>
              <a:xfrm>
                <a:off x="4110120" y="2590920"/>
                <a:ext cx="22680" cy="26506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132800" y="2590920"/>
                <a:ext cx="11520" cy="26506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144680" y="2590920"/>
                <a:ext cx="22680" cy="26506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167360" y="2590920"/>
                <a:ext cx="11160" cy="26506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178880" y="2590920"/>
                <a:ext cx="23040" cy="26506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201920" y="2590920"/>
                <a:ext cx="11160" cy="26506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213440" y="2590920"/>
                <a:ext cx="23040" cy="26506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236840" y="2590920"/>
                <a:ext cx="22680" cy="26506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259520" y="2590920"/>
                <a:ext cx="11520" cy="26506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271400" y="2590920"/>
                <a:ext cx="22680" cy="26506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294080" y="2590920"/>
                <a:ext cx="11160" cy="26506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305600" y="2590920"/>
                <a:ext cx="23040" cy="26506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4603680" y="3962520"/>
              <a:ext cx="218880" cy="1269360"/>
              <a:chOff x="4603680" y="3962520"/>
              <a:chExt cx="218880" cy="1269360"/>
            </a:xfrm>
          </p:grpSpPr>
          <p:sp>
            <p:nvSpPr>
              <p:cNvPr id="667" name=""/>
              <p:cNvSpPr/>
              <p:nvPr/>
            </p:nvSpPr>
            <p:spPr>
              <a:xfrm>
                <a:off x="4603680" y="3962520"/>
                <a:ext cx="11880" cy="12693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615560" y="3962520"/>
                <a:ext cx="24480" cy="12693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640400" y="3962520"/>
                <a:ext cx="11880" cy="12693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652640" y="3962520"/>
                <a:ext cx="24480" cy="12693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677120" y="3962520"/>
                <a:ext cx="11880" cy="12693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89360" y="3962520"/>
                <a:ext cx="24480" cy="12693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713840" y="3962520"/>
                <a:ext cx="11880" cy="12693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726080" y="3962520"/>
                <a:ext cx="22680" cy="12693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749120" y="3962520"/>
                <a:ext cx="11880" cy="12693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761360" y="3962520"/>
                <a:ext cx="24480" cy="12693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785840" y="3962520"/>
                <a:ext cx="11880" cy="12693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798080" y="3962520"/>
                <a:ext cx="24480" cy="12693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4603680" y="4284720"/>
              <a:ext cx="227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5083200" y="4191120"/>
              <a:ext cx="218520" cy="1032840"/>
              <a:chOff x="5083200" y="4191120"/>
              <a:chExt cx="218520" cy="1032840"/>
            </a:xfrm>
          </p:grpSpPr>
          <p:sp>
            <p:nvSpPr>
              <p:cNvPr id="681" name=""/>
              <p:cNvSpPr/>
              <p:nvPr/>
            </p:nvSpPr>
            <p:spPr>
              <a:xfrm>
                <a:off x="5083200" y="4191120"/>
                <a:ext cx="11880" cy="103284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095080" y="4191120"/>
                <a:ext cx="24120" cy="103284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119560" y="4191120"/>
                <a:ext cx="11880" cy="103284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131800" y="4191120"/>
                <a:ext cx="24120" cy="103284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156280" y="4191120"/>
                <a:ext cx="11880" cy="103284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168160" y="4191120"/>
                <a:ext cx="24120" cy="103284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192280" y="4191120"/>
                <a:ext cx="12240" cy="10328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204880" y="4191120"/>
                <a:ext cx="24120" cy="103284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29000" y="4191120"/>
                <a:ext cx="12240" cy="103284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241240" y="4191120"/>
                <a:ext cx="24120" cy="103284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265360" y="4191120"/>
                <a:ext cx="11880" cy="103284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277600" y="4191120"/>
                <a:ext cx="24120" cy="103284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5564160" y="4114800"/>
              <a:ext cx="218880" cy="1142640"/>
              <a:chOff x="5564160" y="4114800"/>
              <a:chExt cx="218880" cy="1142640"/>
            </a:xfrm>
          </p:grpSpPr>
          <p:sp>
            <p:nvSpPr>
              <p:cNvPr id="694" name=""/>
              <p:cNvSpPr/>
              <p:nvPr/>
            </p:nvSpPr>
            <p:spPr>
              <a:xfrm>
                <a:off x="556416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87200" y="4114800"/>
                <a:ext cx="1152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598720" y="4114800"/>
                <a:ext cx="2304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62176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633640" y="4114800"/>
                <a:ext cx="2304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656680" y="4114800"/>
                <a:ext cx="11520" cy="114264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668560" y="4114800"/>
                <a:ext cx="23040" cy="11426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691600" y="4114800"/>
                <a:ext cx="2160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71356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725440" y="4114800"/>
                <a:ext cx="2304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748480" y="4114800"/>
                <a:ext cx="1152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76000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6058080" y="4191120"/>
              <a:ext cx="218520" cy="1040760"/>
              <a:chOff x="6058080" y="4191120"/>
              <a:chExt cx="218520" cy="1040760"/>
            </a:xfrm>
          </p:grpSpPr>
          <p:sp>
            <p:nvSpPr>
              <p:cNvPr id="707" name=""/>
              <p:cNvSpPr/>
              <p:nvPr/>
            </p:nvSpPr>
            <p:spPr>
              <a:xfrm>
                <a:off x="6058080" y="4191120"/>
                <a:ext cx="10080" cy="10407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068160" y="4191120"/>
                <a:ext cx="24480" cy="10407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093000" y="4191120"/>
                <a:ext cx="11880" cy="10407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105240" y="4191120"/>
                <a:ext cx="24480" cy="10407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129720" y="4191120"/>
                <a:ext cx="11880" cy="10407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141960" y="4191120"/>
                <a:ext cx="24480" cy="10407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66800" y="4191120"/>
                <a:ext cx="11880" cy="10407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178680" y="4191120"/>
                <a:ext cx="24120" cy="10407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203160" y="4191120"/>
                <a:ext cx="12240" cy="10407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215760" y="4191120"/>
                <a:ext cx="24120" cy="10407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239880" y="4191120"/>
                <a:ext cx="12240" cy="10407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252480" y="4191120"/>
                <a:ext cx="24120" cy="10407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6058080" y="4319640"/>
              <a:ext cx="2188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537240" y="4148280"/>
              <a:ext cx="23976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7031160" y="4419720"/>
              <a:ext cx="218520" cy="795240"/>
              <a:chOff x="7031160" y="4419720"/>
              <a:chExt cx="218520" cy="795240"/>
            </a:xfrm>
          </p:grpSpPr>
          <p:sp>
            <p:nvSpPr>
              <p:cNvPr id="722" name=""/>
              <p:cNvSpPr/>
              <p:nvPr/>
            </p:nvSpPr>
            <p:spPr>
              <a:xfrm>
                <a:off x="7031160" y="4419720"/>
                <a:ext cx="11880" cy="79524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43040" y="4419720"/>
                <a:ext cx="22680" cy="79524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66080" y="4419720"/>
                <a:ext cx="11880" cy="79524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78320" y="4419720"/>
                <a:ext cx="24480" cy="79524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102800" y="4419720"/>
                <a:ext cx="11880" cy="79524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115040" y="4419720"/>
                <a:ext cx="24480" cy="79524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39880" y="4419720"/>
                <a:ext cx="11880" cy="7952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151760" y="4419720"/>
                <a:ext cx="24480" cy="79524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176600" y="4419720"/>
                <a:ext cx="11880" cy="79524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188840" y="4419720"/>
                <a:ext cx="24120" cy="79524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212960" y="4419720"/>
                <a:ext cx="12240" cy="79524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225560" y="4419720"/>
                <a:ext cx="24120" cy="79524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7031160" y="3906720"/>
              <a:ext cx="22680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7510320" y="3886200"/>
              <a:ext cx="219240" cy="1325520"/>
              <a:chOff x="7510320" y="3886200"/>
              <a:chExt cx="219240" cy="1325520"/>
            </a:xfrm>
          </p:grpSpPr>
          <p:sp>
            <p:nvSpPr>
              <p:cNvPr id="736" name=""/>
              <p:cNvSpPr/>
              <p:nvPr/>
            </p:nvSpPr>
            <p:spPr>
              <a:xfrm>
                <a:off x="7510320" y="3886200"/>
                <a:ext cx="23040" cy="13255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33360" y="3886200"/>
                <a:ext cx="11520" cy="13255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44880" y="3886200"/>
                <a:ext cx="23040" cy="13255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568280" y="3886200"/>
                <a:ext cx="11520" cy="13255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579800" y="3886200"/>
                <a:ext cx="23040" cy="13255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03200" y="3886200"/>
                <a:ext cx="11520" cy="132552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14720" y="3886200"/>
                <a:ext cx="23040" cy="13255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37760" y="3886200"/>
                <a:ext cx="23040" cy="13255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61160" y="3886200"/>
                <a:ext cx="11520" cy="13255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72680" y="3886200"/>
                <a:ext cx="21600" cy="13255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94640" y="3886200"/>
                <a:ext cx="11520" cy="13255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06520" y="3886200"/>
                <a:ext cx="23040" cy="13255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8004240" y="3429000"/>
              <a:ext cx="218520" cy="1828440"/>
              <a:chOff x="8004240" y="3429000"/>
              <a:chExt cx="218520" cy="1828440"/>
            </a:xfrm>
          </p:grpSpPr>
          <p:sp>
            <p:nvSpPr>
              <p:cNvPr id="749" name=""/>
              <p:cNvSpPr/>
              <p:nvPr/>
            </p:nvSpPr>
            <p:spPr>
              <a:xfrm>
                <a:off x="8004240" y="3429000"/>
                <a:ext cx="11880" cy="1828440"/>
              </a:xfrm>
              <a:prstGeom prst="rect">
                <a:avLst/>
              </a:prstGeom>
              <a:solidFill>
                <a:srgbClr val="48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016120" y="3429000"/>
                <a:ext cx="22680" cy="1828440"/>
              </a:xfrm>
              <a:prstGeom prst="rect">
                <a:avLst/>
              </a:prstGeom>
              <a:solidFill>
                <a:srgbClr val="54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039160" y="3429000"/>
                <a:ext cx="12240" cy="1828440"/>
              </a:xfrm>
              <a:prstGeom prst="rect">
                <a:avLst/>
              </a:prstGeom>
              <a:solidFill>
                <a:srgbClr val="68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051760" y="3429000"/>
                <a:ext cx="24120" cy="1828440"/>
              </a:xfrm>
              <a:prstGeom prst="rect">
                <a:avLst/>
              </a:prstGeom>
              <a:solidFill>
                <a:srgbClr val="7e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075880" y="3429000"/>
                <a:ext cx="11880" cy="1828440"/>
              </a:xfrm>
              <a:prstGeom prst="rect">
                <a:avLst/>
              </a:prstGeom>
              <a:solidFill>
                <a:srgbClr val="8e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088120" y="3429000"/>
                <a:ext cx="24480" cy="1828440"/>
              </a:xfrm>
              <a:prstGeom prst="rect">
                <a:avLst/>
              </a:prstGeom>
              <a:solidFill>
                <a:srgbClr val="96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112960" y="3429000"/>
                <a:ext cx="11880" cy="1828440"/>
              </a:xfrm>
              <a:prstGeom prst="rect">
                <a:avLst/>
              </a:prstGeom>
              <a:solidFill>
                <a:srgbClr val="9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124840" y="3429000"/>
                <a:ext cx="24480" cy="1828440"/>
              </a:xfrm>
              <a:prstGeom prst="rect">
                <a:avLst/>
              </a:prstGeom>
              <a:solidFill>
                <a:srgbClr val="9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8149680" y="3429000"/>
                <a:ext cx="11880" cy="1828440"/>
              </a:xfrm>
              <a:prstGeom prst="rect">
                <a:avLst/>
              </a:prstGeom>
              <a:solidFill>
                <a:srgbClr val="8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161920" y="3429000"/>
                <a:ext cx="24480" cy="1828440"/>
              </a:xfrm>
              <a:prstGeom prst="rect">
                <a:avLst/>
              </a:prstGeom>
              <a:solidFill>
                <a:srgbClr val="6f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186400" y="3429000"/>
                <a:ext cx="11880" cy="1828440"/>
              </a:xfrm>
              <a:prstGeom prst="rect">
                <a:avLst/>
              </a:prstGeom>
              <a:solidFill>
                <a:srgbClr val="5a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198640" y="3429000"/>
                <a:ext cx="24120" cy="1828440"/>
              </a:xfrm>
              <a:prstGeom prst="rect">
                <a:avLst/>
              </a:prstGeom>
              <a:solidFill>
                <a:srgbClr val="4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8004240" y="3529080"/>
              <a:ext cx="226800" cy="16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557360" y="2349360"/>
              <a:ext cx="1440" cy="28749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506600" y="52243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506600" y="481176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506600" y="439884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506600" y="39877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506600" y="358632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506600" y="317340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506600" y="276228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506600" y="234936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557360" y="52243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15573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20383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253044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30114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35035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39844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44766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49579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54370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9310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641016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690408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73836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78771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83581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64480" y="1547640"/>
              <a:ext cx="5202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Verdana"/>
                </a:rPr>
                <a:t>Penetración Telefónica Móvil por Región</a:t>
              </a: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408120" y="1879560"/>
              <a:ext cx="2250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(Diciembre de 20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670760" y="32004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1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50280" y="31734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1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656800" y="3952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1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23360" y="3581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7,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656880" y="3276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0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114080" y="2362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32,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1280" y="3733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5,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04800" y="3962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2,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50840" y="3849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3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19200" y="3962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2,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523920" y="38606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3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085880" y="4114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9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66760" y="3581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6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90920" y="32194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2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202040" y="5132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202040" y="4719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112400" y="43084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112400" y="3895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112400" y="34941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112400" y="3083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112400" y="26701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12400" y="2257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6200000">
              <a:off x="1766520" y="5241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16200000">
              <a:off x="2241000" y="5247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16200000">
              <a:off x="2704680" y="52524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16200000">
              <a:off x="3189960" y="529128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16200000">
              <a:off x="3688200" y="52851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16200000">
              <a:off x="4111560" y="530748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16200000">
              <a:off x="4644000" y="529128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16200000">
              <a:off x="5105880" y="529488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16200000">
              <a:off x="5582160" y="530100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200000">
              <a:off x="6096600" y="528012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6200000">
              <a:off x="6607800" y="52740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6200000">
              <a:off x="7069680" y="528012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16200000">
              <a:off x="7533360" y="528336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16200000">
              <a:off x="7727400" y="5546880"/>
              <a:ext cx="75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TOTAL PAÍ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527720" y="5626080"/>
              <a:ext cx="51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eg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16200000">
              <a:off x="-239760" y="3678120"/>
              <a:ext cx="23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80"/>
                  </a:solidFill>
                  <a:latin typeface="Arial"/>
                </a:rPr>
                <a:t>Nº Líneas en Servicio / 100 Ha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3200" y="1352520"/>
              <a:ext cx="8089920" cy="5132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125800" y="5773680"/>
              <a:ext cx="305892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232000" y="58086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23880" y="3429000"/>
              <a:ext cx="69343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1676520" y="3462480"/>
              <a:ext cx="218520" cy="1794960"/>
              <a:chOff x="1676520" y="3462480"/>
              <a:chExt cx="218520" cy="1794960"/>
            </a:xfrm>
          </p:grpSpPr>
          <p:sp>
            <p:nvSpPr>
              <p:cNvPr id="832" name=""/>
              <p:cNvSpPr/>
              <p:nvPr/>
            </p:nvSpPr>
            <p:spPr>
              <a:xfrm>
                <a:off x="167652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69956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1108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73412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745640" y="3462480"/>
                <a:ext cx="2304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768680" y="3462480"/>
                <a:ext cx="11160" cy="17949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780200" y="3462480"/>
                <a:ext cx="23040" cy="17949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803240" y="3462480"/>
                <a:ext cx="2268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82592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83744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86084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87200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6562800" y="4114800"/>
              <a:ext cx="218520" cy="1142640"/>
              <a:chOff x="6562800" y="4114800"/>
              <a:chExt cx="218520" cy="1142640"/>
            </a:xfrm>
          </p:grpSpPr>
          <p:sp>
            <p:nvSpPr>
              <p:cNvPr id="845" name=""/>
              <p:cNvSpPr/>
              <p:nvPr/>
            </p:nvSpPr>
            <p:spPr>
              <a:xfrm>
                <a:off x="656280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585840" y="4114800"/>
                <a:ext cx="1116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597360" y="4114800"/>
                <a:ext cx="2268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62040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632280" y="4114800"/>
                <a:ext cx="2268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655320" y="4114800"/>
                <a:ext cx="11520" cy="114264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667200" y="4114800"/>
                <a:ext cx="22680" cy="11426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690240" y="4114800"/>
                <a:ext cx="2160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71184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723720" y="4114800"/>
                <a:ext cx="2268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46760" y="4114800"/>
                <a:ext cx="1116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75828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Chile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7062840" cy="543888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0" y="20574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52 EB (2.7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28600" y="26668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65 EB (3.3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90720" y="38862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89 EB (4.5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33520" y="443556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gión: 272 EB (13,9%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09680" y="57913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85 EB (4.3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76920" y="1143000"/>
            <a:ext cx="20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87 EB (4.4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818680" y="1704960"/>
            <a:ext cx="211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III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Región: 173 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(8.8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08760" y="2438280"/>
            <a:ext cx="155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X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19 E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6.1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540120" y="2997360"/>
            <a:ext cx="188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Región: 179 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(9.1%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922440" y="3733920"/>
            <a:ext cx="134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6 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0.3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374960" y="4343400"/>
            <a:ext cx="149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2 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0.6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13080" y="505476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gión Metropolita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85 EB (40.1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9480" y="3276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36 EB (1.8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1676520" y="1828800"/>
            <a:ext cx="761760" cy="45720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1981080" y="2286000"/>
            <a:ext cx="1067040" cy="60948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2438280" y="2819520"/>
            <a:ext cx="1067040" cy="68580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3048120" y="3581280"/>
            <a:ext cx="1218960" cy="99072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3505320" y="3581280"/>
            <a:ext cx="914400" cy="1676520"/>
          </a:xfrm>
          <a:prstGeom prst="line">
            <a:avLst/>
          </a:prstGeom>
          <a:ln w="3816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2819160" y="3352680"/>
            <a:ext cx="1143000" cy="762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3885840" y="3733920"/>
            <a:ext cx="609480" cy="205740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4800600" y="1600200"/>
            <a:ext cx="457200" cy="220968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4952520" y="2209680"/>
            <a:ext cx="685800" cy="1905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5181120" y="2895480"/>
            <a:ext cx="762120" cy="137160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5486400" y="3352680"/>
            <a:ext cx="914400" cy="121932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6248520" y="4191120"/>
            <a:ext cx="761760" cy="99036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7543800" y="4800600"/>
            <a:ext cx="1440" cy="114300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78760" y="6308640"/>
            <a:ext cx="51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OTAL = 1.964 Estaciones Base / 35 C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Logo%20SUBTEL" descr=""/>
          <p:cNvPicPr/>
          <p:nvPr/>
        </p:nvPicPr>
        <p:blipFill>
          <a:blip r:embed="rId2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1295280" y="762120"/>
            <a:ext cx="6553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MÓVIL - Estaciones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2666880" y="9907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El total de conexiones a internet en Chile (conmutadas y dedicadas), son del orden de las 650.00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Aproximadamente el 75% se generan en la Región Metropolit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62520" y="2895480"/>
            <a:ext cx="914400" cy="106704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"/>
          <p:cNvGrpSpPr/>
          <p:nvPr/>
        </p:nvGrpSpPr>
        <p:grpSpPr>
          <a:xfrm>
            <a:off x="380880" y="914400"/>
            <a:ext cx="2971800" cy="5715000"/>
            <a:chOff x="380880" y="914400"/>
            <a:chExt cx="2971800" cy="5715000"/>
          </a:xfrm>
        </p:grpSpPr>
        <p:graphicFrame>
          <p:nvGraphicFramePr>
            <p:cNvPr id="894" name=""/>
            <p:cNvGraphicFramePr/>
            <p:nvPr/>
          </p:nvGraphicFramePr>
          <p:xfrm>
            <a:off x="1981080" y="914400"/>
            <a:ext cx="1371600" cy="556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914400"/>
                      <a:ext cx="1371600" cy="556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6" name=""/>
            <p:cNvSpPr/>
            <p:nvPr/>
          </p:nvSpPr>
          <p:spPr>
            <a:xfrm>
              <a:off x="457200" y="914400"/>
              <a:ext cx="1828800" cy="55627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7" name="Red%20FO%20-%20001" descr=""/>
            <p:cNvPicPr/>
            <p:nvPr/>
          </p:nvPicPr>
          <p:blipFill>
            <a:blip r:embed="rId3"/>
            <a:stretch/>
          </p:blipFill>
          <p:spPr>
            <a:xfrm>
              <a:off x="838080" y="914400"/>
              <a:ext cx="241776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Red%20FO%20-%20003" descr=""/>
            <p:cNvPicPr/>
            <p:nvPr/>
          </p:nvPicPr>
          <p:blipFill>
            <a:blip r:embed="rId4"/>
            <a:stretch/>
          </p:blipFill>
          <p:spPr>
            <a:xfrm>
              <a:off x="457200" y="5486400"/>
              <a:ext cx="243828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Red%20FO%20-%20002" descr=""/>
            <p:cNvPicPr/>
            <p:nvPr/>
          </p:nvPicPr>
          <p:blipFill>
            <a:blip r:embed="rId5"/>
            <a:stretch/>
          </p:blipFill>
          <p:spPr>
            <a:xfrm>
              <a:off x="682560" y="3276720"/>
              <a:ext cx="23652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>
              <a:off x="380880" y="6477120"/>
              <a:ext cx="28954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1" name="Logo%20SUBTEL" descr=""/>
          <p:cNvPicPr/>
          <p:nvPr/>
        </p:nvPicPr>
        <p:blipFill>
          <a:blip r:embed="rId6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>
            <a:off x="3276720" y="1212840"/>
            <a:ext cx="4876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RED NACIONAL DE FIBRA OP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657600" y="2292480"/>
            <a:ext cx="5334120" cy="23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onsta de un tendido de casi 6.000 K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obertura desde Arica a Puerto Mon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Respaldada en un 100% mediante varios anillos de fibra óp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apacidad redunda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rocedimientos de restauración a lo largo del paí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60280" y="174456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Características Principa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917520" y="4952880"/>
            <a:ext cx="363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Verdana"/>
              </a:rPr>
              <a:t>Ancho de Banda </a:t>
            </a:r>
            <a:r>
              <a:rPr b="1" lang="es-ES_tradnl" sz="1800" spc="-1" strike="noStrike" u="sng">
                <a:solidFill>
                  <a:srgbClr val="000099"/>
                </a:solidFill>
                <a:uFillTx/>
                <a:latin typeface="Verdana"/>
              </a:rPr>
              <a:t>(FFOO Nac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894560" y="5322960"/>
            <a:ext cx="3233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5,0 Gbps.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ntre Arica y Puerto Mo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7200" y="763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onectividad Nacional e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map_so_am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529080" cy="563868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4038480" y="2057400"/>
            <a:ext cx="4800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namerican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opera desde 02-1998. Punto de conexión: Arica. (2.5 G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mergia: SAM-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, En operación. Punto de conexión: Arica, Valparaiso. (40 Gbps, futuro 1.28 T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obal Crossing: SAC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 IMPSAT.  En operación. Puntos de conexión Conexión en Valparaíso, Stgo. y Los Andes. (40 Gbps, futuro 1.28 T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yectos: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mericas-3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mericas-8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agal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57200" y="609480"/>
            <a:ext cx="3581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886200" y="958680"/>
            <a:ext cx="4419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ANCHO BANDA PA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</a:rPr>
              <a:t>(FFOO Submar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2" name="Logo%20SUBTEL" descr=""/>
          <p:cNvPicPr/>
          <p:nvPr/>
        </p:nvPicPr>
        <p:blipFill>
          <a:blip r:embed="rId2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4168800" y="5440320"/>
            <a:ext cx="459432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99"/>
                </a:solidFill>
                <a:uFillTx/>
                <a:latin typeface="Verdana"/>
              </a:rPr>
              <a:t>Ancho de Banda</a:t>
            </a: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 (FFOO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40 Gb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120200" y="1658880"/>
            <a:ext cx="245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bles internaciona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7200" y="1522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onectividad Nacional e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228600" y="22860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ecnologías disponibles de acceso al usua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666880" y="25909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952880" y="25909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bfb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876920" y="1752480"/>
            <a:ext cx="685800" cy="8384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3504960" y="1676520"/>
            <a:ext cx="609480" cy="9144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85800" y="29718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66680" y="3657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371600" y="43434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676520" y="5029200"/>
            <a:ext cx="99036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M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8001000" y="2514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.5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391520" y="3581280"/>
            <a:ext cx="990360" cy="60984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248520" y="4724280"/>
            <a:ext cx="990360" cy="60984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Handh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200400" y="5943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57200" y="22860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ar C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67080" y="5943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TV D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2133360" y="3200400"/>
            <a:ext cx="685800" cy="6094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362320" y="3276720"/>
            <a:ext cx="761760" cy="10666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2742840" y="3276720"/>
            <a:ext cx="685800" cy="17524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2057040" y="2819520"/>
            <a:ext cx="60948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1676520" y="2819520"/>
            <a:ext cx="380880" cy="3808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 flipV="1">
            <a:off x="1447560" y="2666880"/>
            <a:ext cx="609480" cy="1526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886200" y="3276720"/>
            <a:ext cx="838080" cy="266688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657600" y="3276720"/>
            <a:ext cx="76320" cy="259056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91320" y="3200400"/>
            <a:ext cx="838080" cy="15238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6468840" y="2766600"/>
            <a:ext cx="1540440" cy="2844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400800" y="3200400"/>
            <a:ext cx="990720" cy="6094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066680" y="1143000"/>
            <a:ext cx="6934320" cy="91440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3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44" name=""/>
          <p:cNvSpPr/>
          <p:nvPr/>
        </p:nvSpPr>
        <p:spPr>
          <a:xfrm>
            <a:off x="4239720" y="3278880"/>
            <a:ext cx="1502640" cy="235764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562720" y="57150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Infocen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96080" y="1676520"/>
            <a:ext cx="1295640" cy="60948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 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MS, W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6476760" y="2043720"/>
            <a:ext cx="1152720" cy="634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2590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2280" y="3154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80880" y="3886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85800" y="44956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066680" y="52117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057400" y="6172200"/>
            <a:ext cx="1295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1 -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pruebas pil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934320" y="59738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257800" y="6400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3 - 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620120" y="42670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 -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467480" y="22860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772400" y="3154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1 -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238880" y="49831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 -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066680" y="2438280"/>
            <a:ext cx="6934320" cy="205740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295280" y="2666880"/>
            <a:ext cx="647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Estimular la disponibilidad de medios informáticos, mediante soluciones comunitarias o individuales, de modo que las personas y empresas puedan interactuar en las redes de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DÉFICIT DE SOLUCIONES COMUNIT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1905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egún estadísticas (Dic 2000) , los déficits de conectividad:2,4 millones de familias. Requieren soluciones de tipo comunit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96% corresponde a hogares, urbanos y rurales, de ingresos inferiores a $500 mil/mes; sin conexión telefónica. Los que si la tienen, no poseen dispositivos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5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66" name=""/>
          <p:cNvSpPr/>
          <p:nvPr/>
        </p:nvSpPr>
        <p:spPr>
          <a:xfrm>
            <a:off x="609480" y="3505320"/>
            <a:ext cx="7925040" cy="1523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300 mil hogares (8% del total de hogares) con ingreso entre $500 mil y un millón por mes, no disponen de P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i tienen acceso a la infraestructura básica de telecomunicaciones (potenciales familias conectad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09480" y="5257800"/>
            <a:ext cx="792504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450 mil hogares (12% del total) con ingresos familiares superiores a $1.000.000 sin conexión a Internet, a pesar de que la mitad tiene P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219320" y="304920"/>
            <a:ext cx="670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Brecha 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PROGRAMA NACIONAL DE  INFO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1" name=""/>
          <p:cNvGraphicFramePr/>
          <p:nvPr/>
        </p:nvGraphicFramePr>
        <p:xfrm>
          <a:off x="152280" y="693720"/>
          <a:ext cx="8680680" cy="616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693720"/>
                    <a:ext cx="8680680" cy="61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3" name=""/>
          <p:cNvSpPr/>
          <p:nvPr/>
        </p:nvSpPr>
        <p:spPr>
          <a:xfrm>
            <a:off x="5105520" y="6156360"/>
            <a:ext cx="3962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500" spc="-1" strike="noStrike">
                <a:solidFill>
                  <a:srgbClr val="000000"/>
                </a:solidFill>
                <a:latin typeface="Verdana"/>
              </a:rPr>
              <a:t>Fuente:  SUBTEL   (Sept 200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304200"/>
            <a:ext cx="3733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4400" y="1342440"/>
            <a:ext cx="7315200" cy="41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edios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luciones Comuni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pectos de Calidad de las 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volución d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sider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PROGRAMA NACIONAL DE TELEC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2"/>
          <a:stretch/>
        </p:blipFill>
        <p:spPr>
          <a:xfrm>
            <a:off x="2666880" y="838080"/>
            <a:ext cx="3248280" cy="5181840"/>
          </a:xfrm>
          <a:prstGeom prst="rect">
            <a:avLst/>
          </a:prstGeom>
          <a:ln w="0">
            <a:noFill/>
          </a:ln>
        </p:spPr>
      </p:pic>
      <p:sp>
        <p:nvSpPr>
          <p:cNvPr id="977" name=""/>
          <p:cNvSpPr/>
          <p:nvPr/>
        </p:nvSpPr>
        <p:spPr>
          <a:xfrm>
            <a:off x="304920" y="914400"/>
            <a:ext cx="99036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Arica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Iquique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295280" y="1143000"/>
            <a:ext cx="2362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04920" y="1523880"/>
            <a:ext cx="144756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Antogagasta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alama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752480" y="1752480"/>
            <a:ext cx="1828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04920" y="2133720"/>
            <a:ext cx="990360" cy="182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piapó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295280" y="2209680"/>
            <a:ext cx="2286000" cy="10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04920" y="2438280"/>
            <a:ext cx="121896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quimbo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La Serena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09680" y="2819520"/>
            <a:ext cx="1143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04920" y="3048120"/>
            <a:ext cx="914400" cy="978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bild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Caler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Ligua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etorc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cuncaví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taend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286000" y="342900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219320" y="3048120"/>
            <a:ext cx="1066680" cy="978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Quillot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Quilpué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Antonio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Felip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alparís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iña del Mar 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 flipV="1">
            <a:off x="1523520" y="2666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52280" y="4267080"/>
            <a:ext cx="1219320" cy="1646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errillo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erro Navi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lin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Estación Centra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Huechurab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Florida (1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Rein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Melipill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.A. Cerd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eñalolé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371600" y="4267080"/>
            <a:ext cx="1143000" cy="1646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rovidenci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Quinta Norma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Recolet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Bernard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Joaquí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Migue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tiag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Talagant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Tilti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ente Alt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048120" y="6172200"/>
            <a:ext cx="914400" cy="47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uquene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rept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inare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705720" y="762120"/>
            <a:ext cx="990360" cy="1312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ñet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hillán (7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ncepción 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ntulm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ranilahue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ebu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os Álamo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ot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146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66680" y="6019920"/>
            <a:ext cx="144792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Rancagua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San Fernando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2514600" y="525780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6172200"/>
            <a:ext cx="1143000" cy="47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-Río Clar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-San Clement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-Talca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3352680" y="55623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629400" y="2165400"/>
            <a:ext cx="914400" cy="114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Angol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rahue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llipulli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nc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racautín (9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Galvarin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utar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543800" y="2165400"/>
            <a:ext cx="1219320" cy="114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. De las Casa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itrufqué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to. Saavedr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ré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Renaico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illarrica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 flipV="1">
            <a:off x="5257800" y="990360"/>
            <a:ext cx="1447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 flipV="1">
            <a:off x="5409720" y="144792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477120" y="3429000"/>
            <a:ext cx="1066680" cy="811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Ancud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Osorn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anguipulli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erto Montt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aldivi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 flipV="1">
            <a:off x="5181120" y="1981080"/>
            <a:ext cx="12956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05720" y="5638680"/>
            <a:ext cx="1447560" cy="182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Punta Arena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 flipV="1">
            <a:off x="5562360" y="52578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324480" y="4419720"/>
            <a:ext cx="1447920" cy="738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hile Chico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chrane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yhaique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5257440" y="3200400"/>
            <a:ext cx="1066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486400" y="624852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Verdana"/>
              </a:rPr>
              <a:t>Fuente:  SUBTEL (Sept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PROGRAMA NACIONAL DE TELEC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609480" y="914400"/>
            <a:ext cx="7925040" cy="48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99"/>
                </a:solidFill>
                <a:uFillTx/>
                <a:latin typeface="Verdana"/>
              </a:rPr>
              <a:t>Para fines del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uevos Infocentros MINECON, SERCOTEC, FOSIS y Bco.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uevos Infocentros del MINV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99"/>
                </a:solidFill>
                <a:uFillTx/>
                <a:latin typeface="Verdana"/>
              </a:rPr>
              <a:t>Para el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BAM: 330 Infocentros en Bibliotecas (1 en cada comun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proyectan 70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TELECENTRO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vía subsidios del FDT-II (Subte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 través del Proyecto Enlaces se está evaluando el establecer un Infocentro en cada establecimiento educacional del país. (5.335 establecimien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NCE: 107 Oficinas Municipales de Información Laboral (OMIL) que servirán como Infocen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VALOR DE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3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14" name=""/>
          <p:cNvSpPr/>
          <p:nvPr/>
        </p:nvSpPr>
        <p:spPr>
          <a:xfrm>
            <a:off x="457200" y="1820880"/>
            <a:ext cx="7848720" cy="36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Percepción del valor de las 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s TI no son un sector económico. Son un instrumento para la acción del hombre. Las TI no reemplazan las necesidades cotidianas de la gente. Solamente las ayudan a satisfacerlas de mejor modo, tanto desde el cómo se producen los bienes y servicios y cómo se accede a ell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s TI reducen significativamente los costos de transacción. En términos económicos, implica más eficiencia, más competencia, y más uso del mercado como mecanismo de coordin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VALOR DE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762120" y="1927080"/>
            <a:ext cx="7543800" cy="30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ectividad su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e tienen excelentes valores de anchos de banda al interior del país y de salida internacional. Además, se tienen normativas de calidad del servic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stímulo para la oferta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 Gobierno ha tomado un rol promotor generando las condiciones para que los privados inviertan y desarrollen negocios en TI. Alianz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Difusión para impulsar la demanda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s necesario abundar en iniciativas que difundan conocimientos acerca de las TI e infoalfabeticen a ciudadanos y microempresar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8" name=""/>
          <p:cNvGraphicFramePr/>
          <p:nvPr/>
        </p:nvGraphicFramePr>
        <p:xfrm>
          <a:off x="1185840" y="2189160"/>
          <a:ext cx="672480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5840" y="2189160"/>
                    <a:ext cx="672480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0" name=""/>
          <p:cNvSpPr/>
          <p:nvPr/>
        </p:nvSpPr>
        <p:spPr>
          <a:xfrm>
            <a:off x="380880" y="9144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mportancia para el Gobi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ara abordar el mejor tratamiento de los grandes temas, el Comité los organizó en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cinco áreas o eje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, que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90720" y="304920"/>
            <a:ext cx="716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CGN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2" name="Logo%20SUBTEL" descr=""/>
          <p:cNvPicPr/>
          <p:nvPr/>
        </p:nvPicPr>
        <p:blipFill>
          <a:blip r:embed="rId3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Un aporte al Acceso y a la Formación en Tecnologías de Información en 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4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25" name=""/>
          <p:cNvSpPr/>
          <p:nvPr/>
        </p:nvSpPr>
        <p:spPr>
          <a:xfrm>
            <a:off x="685800" y="1600200"/>
            <a:ext cx="762012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s 5 ejes estratégicos del gobierno en su estrategia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Superar la brecha digital: social y geográ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romover la educación para la sociedad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Construir un Gobierno electrónico de Clase Mundial para todos los ciudad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Desarrollar la industria local de TI (contenidos y servici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Desarrollar el comercio electrónico y el uso de TI en las medianas y pequeñas empres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Un aporte al Acceso y a la Formación en Tecnologías de Información en 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685800" y="2293920"/>
            <a:ext cx="76201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A la subsecretaría le corresponde coordinar los esfuerzos 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FOMENTO AL AC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LA FORMACIÓN DE RECURSOS HUMANOS EN 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Aspectos de Calidad de las Re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3504960" y="1752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3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34" name=""/>
          <p:cNvSpPr/>
          <p:nvPr/>
        </p:nvSpPr>
        <p:spPr>
          <a:xfrm>
            <a:off x="112896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120" y="1889280"/>
            <a:ext cx="769608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ipo de señalización: S7 (Caller ID, llamada en espera, otros servici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sa de pérdida (telefonía): Plan de Encaminamiento. Perdida má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1% entre punto Origen y Destino. Hay competencia donde hay superposición de re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bertura Telefonía Móvil: Disponibilidad del servicio. Ha mejorado. Usuario elige por precio y luego c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D: convenio para respaldo de fibra frente a emergencias (fibra oscura). Hoy hay competencia en el transporte de señ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3504960" y="1752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7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12052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219320" y="2895480"/>
            <a:ext cx="29718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OFREC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952880" y="2895480"/>
            <a:ext cx="29718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ALCAN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33520" y="41911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33520" y="640080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33520" y="220968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666880" y="5943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895480" y="22860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6" name=""/>
          <p:cNvCxnSpPr>
            <a:stCxn id="1039" idx="1"/>
          </p:cNvCxnSpPr>
          <p:nvPr/>
        </p:nvCxnSpPr>
        <p:spPr>
          <a:xfrm flipH="1" flipV="1" rot="10800000">
            <a:off x="1218960" y="3161160"/>
            <a:ext cx="2160" cy="2210760"/>
          </a:xfrm>
          <a:prstGeom prst="curvedConnector5">
            <a:avLst>
              <a:gd name="adj1" fmla="val -58100000"/>
              <a:gd name="adj2" fmla="val 50000"/>
              <a:gd name="adj3" fmla="val -581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7" name=""/>
          <p:cNvCxnSpPr/>
          <p:nvPr/>
        </p:nvCxnSpPr>
        <p:spPr>
          <a:xfrm>
            <a:off x="8001000" y="3200400"/>
            <a:ext cx="2160" cy="2210400"/>
          </a:xfrm>
          <a:prstGeom prst="curvedConnector5">
            <a:avLst>
              <a:gd name="adj1" fmla="val 42280000"/>
              <a:gd name="adj2" fmla="val 49991"/>
              <a:gd name="adj3" fmla="val 4228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8" name=""/>
          <p:cNvCxnSpPr>
            <a:stCxn id="1040" idx="0"/>
            <a:endCxn id="1039" idx="0"/>
          </p:cNvCxnSpPr>
          <p:nvPr/>
        </p:nvCxnSpPr>
        <p:spPr>
          <a:xfrm rot="5400000">
            <a:off x="4570560" y="1028520"/>
            <a:ext cx="2520" cy="3734640"/>
          </a:xfrm>
          <a:prstGeom prst="curvedConnector5">
            <a:avLst>
              <a:gd name="adj1" fmla="val -104800000"/>
              <a:gd name="adj2" fmla="val 49995"/>
              <a:gd name="adj3" fmla="val -1048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9" name=""/>
          <p:cNvCxnSpPr/>
          <p:nvPr/>
        </p:nvCxnSpPr>
        <p:spPr>
          <a:xfrm flipH="1" rot="16200000">
            <a:off x="4570920" y="3772080"/>
            <a:ext cx="2520" cy="3734640"/>
          </a:xfrm>
          <a:prstGeom prst="curvedConnector5">
            <a:avLst>
              <a:gd name="adj1" fmla="val 58683333"/>
              <a:gd name="adj2" fmla="val 49995"/>
              <a:gd name="adj3" fmla="val 5868333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50" name=""/>
          <p:cNvSpPr/>
          <p:nvPr/>
        </p:nvSpPr>
        <p:spPr>
          <a:xfrm>
            <a:off x="4191120" y="5638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3657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77240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191120" y="1371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38080" y="11430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Verdana"/>
              </a:rPr>
              <a:t>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219320" y="5105520"/>
            <a:ext cx="29718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ESPE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029200" y="5105520"/>
            <a:ext cx="29718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PERCIB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REDES DE TELECOMUNICACIONES Y 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429000"/>
            <a:ext cx="7848720" cy="0"/>
          </a:xfrm>
          <a:prstGeom prst="line">
            <a:avLst/>
          </a:prstGeom>
          <a:ln w="237960">
            <a:solidFill>
              <a:srgbClr val="9933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4479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Medios de Comunicación más usados durante los conflictos bél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4800" y="2590920"/>
            <a:ext cx="1295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TV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(Diferi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28195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243828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Cin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2590920"/>
            <a:ext cx="1295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TV</a:t>
            </a:r>
            <a:br>
              <a:rPr sz="1800"/>
            </a:b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(sateli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62920" y="236232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Multi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373392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I Guerra Mund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73392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II Guerra Mund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373392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Viet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373392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Golfo Pérs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3733920"/>
            <a:ext cx="1219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Verdana"/>
              </a:rPr>
              <a:t>Sep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19720"/>
            <a:ext cx="830592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Según Harris Interactive, sondeando a 4.610 internautas de USA entre el día 11 y 12 de septiembre, el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64%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de los encuestados dijo que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nternet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fue su principal fuente de información. </a:t>
            </a:r>
            <a:br>
              <a:rPr sz="1400"/>
            </a:b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Ademá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-48% señaló que Internet les fue útil para enfrentarse a la traged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-47% discutieron Online los atentados a través de fo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-36% escogieron la red como medio de información ya que en ella encontraban noticias más detalladas.                      </a:t>
            </a:r>
            <a:r>
              <a:rPr b="1" i="1" lang="es-ES_tradnl" sz="1400" spc="-1" strike="noStrike">
                <a:solidFill>
                  <a:srgbClr val="000000"/>
                </a:solidFill>
                <a:latin typeface="Verdana"/>
              </a:rPr>
              <a:t>Fuente: Grupo Intercom España (www.noticias.c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/>
          <p:nvPr/>
        </p:nvSpPr>
        <p:spPr>
          <a:xfrm>
            <a:off x="12322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62120" y="2041560"/>
            <a:ext cx="7467480" cy="25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ofrecida y alcanzada: Será una medida de la manera en que los lineamientos estratégico-comerciales bajan hacia el nivel de op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esperada y percibida: Será una medida del grado en que el servicio es lo que el usuario estaba esperando. Nivel de satisfacción del usu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061" name=""/>
          <p:cNvSpPr/>
          <p:nvPr/>
        </p:nvSpPr>
        <p:spPr>
          <a:xfrm>
            <a:off x="12322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62120" y="1144440"/>
            <a:ext cx="7696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alcanzada y percibida: La calidad alcanzada induce la calidad percibida. El gap se produce por diferencias de interpretación entre usuario y proveedor (debiese tender a cero con adecuadas funciones post-vent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esperada y ofrecida: La calidad esperada induce la calidad ofrecida. El gap se produce por diferencias de interpretación entre usuario y proveedor (debiese tender a cero con adecuados estudios de demanda, focus grou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Modelo funciona de manera que reduciendo un Gap, se reducen los demás y vice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064" name=""/>
          <p:cNvSpPr/>
          <p:nvPr/>
        </p:nvSpPr>
        <p:spPr>
          <a:xfrm>
            <a:off x="16624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33520" y="1523880"/>
            <a:ext cx="81532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tivas Técnicas d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 de Calidad de los Enlaces de Tráfico d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 de Calidad del Servicio de Acceso 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tivas elaboradas en colaboración con la Asociación de Proveedores de Internet (API A.G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tivas con enfoque de autorregulación, vale decir, no se fijan estándares mínimos de calidad para los indicadores, sino que se deben medir y publicar en sitios web, siendo el mercado el que debe ope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ayor transparencia para los usuarios e introducción de criterios precio - calidad del servi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67" name=""/>
          <p:cNvSpPr/>
          <p:nvPr/>
        </p:nvSpPr>
        <p:spPr>
          <a:xfrm>
            <a:off x="304920" y="1447920"/>
            <a:ext cx="297180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 148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struye a aceptar y solicitar conexión con otros ISPs (elimina distorsión en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0188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7794720" y="2725560"/>
            <a:ext cx="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7794360" y="3182760"/>
            <a:ext cx="324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7946640" y="2878200"/>
            <a:ext cx="152280" cy="101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947000" y="3106800"/>
            <a:ext cx="152280" cy="759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618000" y="2540160"/>
            <a:ext cx="17524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ackbone Chil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Norma 6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 flipV="1">
            <a:off x="6970320" y="2116080"/>
            <a:ext cx="6858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 flipV="1">
            <a:off x="7351200" y="203976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7475400" y="2421000"/>
            <a:ext cx="547560" cy="361800"/>
            <a:chOff x="7475400" y="2421000"/>
            <a:chExt cx="547560" cy="361800"/>
          </a:xfrm>
        </p:grpSpPr>
        <p:sp>
          <p:nvSpPr>
            <p:cNvPr id="1076" name="">
              <a:hlinkClick r:id="rId2"/>
            </p:cNvPr>
            <p:cNvSpPr/>
            <p:nvPr/>
          </p:nvSpPr>
          <p:spPr>
            <a:xfrm>
              <a:off x="7475400" y="24210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489440" y="24778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8" name=""/>
          <p:cNvSpPr/>
          <p:nvPr/>
        </p:nvSpPr>
        <p:spPr>
          <a:xfrm>
            <a:off x="5904000" y="3564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284880" y="341136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5827320" y="211608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5903640" y="2116080"/>
            <a:ext cx="6858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7579800" y="3411360"/>
            <a:ext cx="685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693960" y="3792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566120" y="2878200"/>
            <a:ext cx="457200" cy="29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8085240" y="2592360"/>
            <a:ext cx="547560" cy="361800"/>
            <a:chOff x="8085240" y="2592360"/>
            <a:chExt cx="547560" cy="361800"/>
          </a:xfrm>
        </p:grpSpPr>
        <p:sp>
          <p:nvSpPr>
            <p:cNvPr id="1086" name="">
              <a:hlinkClick r:id="rId3"/>
            </p:cNvPr>
            <p:cNvSpPr/>
            <p:nvPr/>
          </p:nvSpPr>
          <p:spPr>
            <a:xfrm>
              <a:off x="8085240" y="259236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099280" y="264924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8099280" y="3049560"/>
            <a:ext cx="547560" cy="361800"/>
            <a:chOff x="8099280" y="3049560"/>
            <a:chExt cx="547560" cy="361800"/>
          </a:xfrm>
        </p:grpSpPr>
        <p:sp>
          <p:nvSpPr>
            <p:cNvPr id="1089" name="">
              <a:hlinkClick r:id="rId4"/>
            </p:cNvPr>
            <p:cNvSpPr/>
            <p:nvPr/>
          </p:nvSpPr>
          <p:spPr>
            <a:xfrm>
              <a:off x="8099280" y="304956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113320" y="310644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7551720" y="3259080"/>
            <a:ext cx="547560" cy="361800"/>
            <a:chOff x="7551720" y="3259080"/>
            <a:chExt cx="547560" cy="361800"/>
          </a:xfrm>
        </p:grpSpPr>
        <p:sp>
          <p:nvSpPr>
            <p:cNvPr id="1092" name="">
              <a:hlinkClick r:id="rId5"/>
            </p:cNvPr>
            <p:cNvSpPr/>
            <p:nvPr/>
          </p:nvSpPr>
          <p:spPr>
            <a:xfrm>
              <a:off x="7551720" y="325908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565760" y="331596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 flipH="1">
            <a:off x="7489440" y="3106800"/>
            <a:ext cx="152280" cy="101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836960" y="1430280"/>
            <a:ext cx="3886200" cy="91440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ET MUND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5765760" y="2725560"/>
            <a:ext cx="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 flipV="1">
            <a:off x="5765400" y="3182760"/>
            <a:ext cx="324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918040" y="3106800"/>
            <a:ext cx="152640" cy="759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5446800" y="2421000"/>
            <a:ext cx="547560" cy="361800"/>
            <a:chOff x="5446800" y="2421000"/>
            <a:chExt cx="547560" cy="361800"/>
          </a:xfrm>
        </p:grpSpPr>
        <p:sp>
          <p:nvSpPr>
            <p:cNvPr id="1100" name="">
              <a:hlinkClick r:id="rId6"/>
            </p:cNvPr>
            <p:cNvSpPr/>
            <p:nvPr/>
          </p:nvSpPr>
          <p:spPr>
            <a:xfrm>
              <a:off x="5446800" y="24210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460840" y="24778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6070680" y="3049560"/>
            <a:ext cx="547560" cy="361800"/>
            <a:chOff x="6070680" y="3049560"/>
            <a:chExt cx="547560" cy="361800"/>
          </a:xfrm>
        </p:grpSpPr>
        <p:sp>
          <p:nvSpPr>
            <p:cNvPr id="1103" name="">
              <a:hlinkClick r:id="rId7"/>
            </p:cNvPr>
            <p:cNvSpPr/>
            <p:nvPr/>
          </p:nvSpPr>
          <p:spPr>
            <a:xfrm>
              <a:off x="6070680" y="304956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084720" y="310644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5522760" y="3259080"/>
            <a:ext cx="547560" cy="361800"/>
            <a:chOff x="5522760" y="3259080"/>
            <a:chExt cx="547560" cy="361800"/>
          </a:xfrm>
        </p:grpSpPr>
        <p:sp>
          <p:nvSpPr>
            <p:cNvPr id="1106" name="">
              <a:hlinkClick r:id="rId8"/>
            </p:cNvPr>
            <p:cNvSpPr/>
            <p:nvPr/>
          </p:nvSpPr>
          <p:spPr>
            <a:xfrm>
              <a:off x="5522760" y="325908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536800" y="331596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8" name=""/>
          <p:cNvSpPr/>
          <p:nvPr/>
        </p:nvSpPr>
        <p:spPr>
          <a:xfrm flipH="1">
            <a:off x="5460840" y="3106800"/>
            <a:ext cx="152640" cy="101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4989600" y="3106800"/>
            <a:ext cx="547560" cy="361800"/>
            <a:chOff x="4989600" y="3106800"/>
            <a:chExt cx="547560" cy="361800"/>
          </a:xfrm>
        </p:grpSpPr>
        <p:sp>
          <p:nvSpPr>
            <p:cNvPr id="1110" name="">
              <a:hlinkClick r:id="rId9"/>
            </p:cNvPr>
            <p:cNvSpPr/>
            <p:nvPr/>
          </p:nvSpPr>
          <p:spPr>
            <a:xfrm>
              <a:off x="4989600" y="31068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003640" y="31636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5446800" y="2878200"/>
            <a:ext cx="152280" cy="759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4975200" y="2649600"/>
            <a:ext cx="547560" cy="361800"/>
            <a:chOff x="4975200" y="2649600"/>
            <a:chExt cx="547560" cy="361800"/>
          </a:xfrm>
        </p:grpSpPr>
        <p:sp>
          <p:nvSpPr>
            <p:cNvPr id="1114" name="">
              <a:hlinkClick r:id="rId10"/>
            </p:cNvPr>
            <p:cNvSpPr/>
            <p:nvPr/>
          </p:nvSpPr>
          <p:spPr>
            <a:xfrm>
              <a:off x="4975200" y="26496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989240" y="27064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 rot="18870000">
            <a:off x="5506920" y="2657520"/>
            <a:ext cx="2481840" cy="235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198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19878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537160" y="2878200"/>
            <a:ext cx="457200" cy="29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618000" y="23446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7122960" y="3411360"/>
            <a:ext cx="1526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7018200" y="3106800"/>
            <a:ext cx="547560" cy="361800"/>
            <a:chOff x="7018200" y="3106800"/>
            <a:chExt cx="547560" cy="361800"/>
          </a:xfrm>
        </p:grpSpPr>
        <p:sp>
          <p:nvSpPr>
            <p:cNvPr id="1121" name="">
              <a:hlinkClick r:id="rId11"/>
            </p:cNvPr>
            <p:cNvSpPr/>
            <p:nvPr/>
          </p:nvSpPr>
          <p:spPr>
            <a:xfrm>
              <a:off x="7018200" y="31068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032240" y="31636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5410080" y="4114800"/>
            <a:ext cx="259092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-228600" y="2876400"/>
            <a:ext cx="3505320" cy="20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73200" indent="-2160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 698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struye a los PITs (Puntos de Intercambio de Tráfico) e ISPs a medir y publicar Indicadores de calidad de los enlaces de tráfico internet existentes entre ell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505320" y="4648320"/>
            <a:ext cx="510516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73200" indent="-2160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 669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ija indicadores de calidad del servicio de acceso a Inter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699360" y="394488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 mi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orma 6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858000" y="3581280"/>
            <a:ext cx="1244520" cy="55404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P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666880" y="9144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rmativas Técnicas de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120" y="5049720"/>
            <a:ext cx="37375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Tasa de Ocupación del Enl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Latenci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Tasa de Pérdida de Paque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733920" y="5257800"/>
            <a:ext cx="53337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asa de éxito de los intentos de conex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iempo promedio de establecimiento de la conex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asa de transferencia de da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orcentaje de Modems disponi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05264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105264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80880" y="8380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Norma de Calidad de los Enlaces de Tráfico de Internet (Res. Ex. N°69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2"/>
          <a:stretch/>
        </p:blipFill>
        <p:spPr>
          <a:xfrm>
            <a:off x="4992840" y="141444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3"/>
          <a:stretch/>
        </p:blipFill>
        <p:spPr>
          <a:xfrm>
            <a:off x="304920" y="1981080"/>
            <a:ext cx="4190760" cy="1397160"/>
          </a:xfrm>
          <a:prstGeom prst="rect">
            <a:avLst/>
          </a:prstGeom>
          <a:ln w="0">
            <a:noFill/>
          </a:ln>
        </p:spPr>
      </p:pic>
      <p:sp>
        <p:nvSpPr>
          <p:cNvPr id="1137" name=""/>
          <p:cNvSpPr/>
          <p:nvPr/>
        </p:nvSpPr>
        <p:spPr>
          <a:xfrm>
            <a:off x="533520" y="137160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sa de Ocupación del Enlace (Subida y Bajada) (25.06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04920" y="3429000"/>
            <a:ext cx="419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ubida: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Max: 7276.0 (71%) Kbps Promedio: 3859.4 (37%) Kbps Actual: 4992.0 (48%) Kbps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Bajada: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Max: 6368.8 (62%) Kbps Promedio: 3520.4 (34%) Kbps Actual: 5432.0 (53%)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4"/>
          <a:stretch/>
        </p:blipFill>
        <p:spPr>
          <a:xfrm>
            <a:off x="380880" y="4495680"/>
            <a:ext cx="3926160" cy="1308240"/>
          </a:xfrm>
          <a:prstGeom prst="rect">
            <a:avLst/>
          </a:prstGeom>
          <a:ln w="0">
            <a:noFill/>
          </a:ln>
        </p:spPr>
      </p:pic>
      <p:sp>
        <p:nvSpPr>
          <p:cNvPr id="1140" name=""/>
          <p:cNvSpPr/>
          <p:nvPr/>
        </p:nvSpPr>
        <p:spPr>
          <a:xfrm>
            <a:off x="609480" y="419112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tencia del Enlace (25.06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09480" y="5791320"/>
            <a:ext cx="373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Latencia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Max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6.4 ms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omedio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2.2 ms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ctual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4.0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5"/>
          <a:stretch/>
        </p:blipFill>
        <p:spPr>
          <a:xfrm>
            <a:off x="4724280" y="4800600"/>
            <a:ext cx="4000680" cy="1333440"/>
          </a:xfrm>
          <a:prstGeom prst="rect">
            <a:avLst/>
          </a:prstGeom>
          <a:ln w="0">
            <a:noFill/>
          </a:ln>
        </p:spPr>
      </p:pic>
      <p:sp>
        <p:nvSpPr>
          <p:cNvPr id="1143" name=""/>
          <p:cNvSpPr/>
          <p:nvPr/>
        </p:nvSpPr>
        <p:spPr>
          <a:xfrm>
            <a:off x="4800600" y="41911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sa de pérdida de paquetes del Enlace (25.06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110920" y="6095880"/>
            <a:ext cx="333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érdida: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Max: 3.1% Promedio: 0.9% Actual: 0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636200" y="6415200"/>
            <a:ext cx="55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99"/>
                </a:solidFill>
                <a:latin typeface="Verdana"/>
              </a:rPr>
              <a:t>www.subtel.cl/marco_legal/normas/indice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6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Evolución d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2209680" y="838080"/>
            <a:ext cx="4953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asto en Tecnologías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0" name=""/>
          <p:cNvGraphicFramePr/>
          <p:nvPr/>
        </p:nvGraphicFramePr>
        <p:xfrm>
          <a:off x="228600" y="1523880"/>
          <a:ext cx="8699400" cy="146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69940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2" name=""/>
          <p:cNvSpPr/>
          <p:nvPr/>
        </p:nvSpPr>
        <p:spPr>
          <a:xfrm>
            <a:off x="304920" y="309240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International Data Corporation Chile y CNC (Feb 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57200" y="3657600"/>
            <a:ext cx="80010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ún cuando ha crecido el Gasto en TI, este crecimiento no es sufic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tasa de crecimiento de latinoamérica es mayor. Colombia se proyecta con un 1.9% del PIB para este a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hile debiese llegar, a juicio de los analistas, a un gasto en TI de 2.39% del PIB para seguir manteniendo el liderazgo en latinoamér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Logo%20SUBTEL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55" name=""/>
          <p:cNvSpPr/>
          <p:nvPr/>
        </p:nvSpPr>
        <p:spPr>
          <a:xfrm>
            <a:off x="1147680" y="120600"/>
            <a:ext cx="486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333399"/>
                </a:solidFill>
                <a:uFillTx/>
                <a:latin typeface="Verdana"/>
              </a:rPr>
              <a:t>Evolución de Internet en Ch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6" name=""/>
          <p:cNvGraphicFramePr/>
          <p:nvPr/>
        </p:nvGraphicFramePr>
        <p:xfrm>
          <a:off x="228600" y="708120"/>
          <a:ext cx="8229600" cy="55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08120"/>
                    <a:ext cx="8229600" cy="55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8" name=""/>
          <p:cNvSpPr/>
          <p:nvPr/>
        </p:nvSpPr>
        <p:spPr>
          <a:xfrm>
            <a:off x="5105520" y="1523880"/>
            <a:ext cx="2743200" cy="457200"/>
          </a:xfrm>
          <a:prstGeom prst="wedgeRectCallout">
            <a:avLst>
              <a:gd name="adj1" fmla="val 35416"/>
              <a:gd name="adj2" fmla="val 107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usuarios/100 Habit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133720" y="609588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SUBTEL / CCS (2006 (e); 5 MM usuarios; 30 usuarios por cada 100 h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0" name="Logo%20SUBTEL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61" name=""/>
          <p:cNvSpPr/>
          <p:nvPr/>
        </p:nvSpPr>
        <p:spPr>
          <a:xfrm>
            <a:off x="1300320" y="120600"/>
            <a:ext cx="486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333399"/>
                </a:solidFill>
                <a:uFillTx/>
                <a:latin typeface="Verdana"/>
              </a:rPr>
              <a:t>Evolución de Internet en Ch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2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63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Perspec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ortunidades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hile todavía está lejos de las penetraciones en los países desarroll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hile (aun en el contexto actual) presenta un bajo riesgo lo que incentiva la inversiò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arrollo de penetración en estratos rurales y/o de menores ingre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Disponer de medios de acceso a lo largo de todo el territorio naciona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Estimular la disponibilidad de medios informáticos, mediante soluciones comunitarias o individuales, de modo que las personas y empresas puedan interactuar en las redes de informació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Desarrollo de la Infraestructura de seguridad para la operación de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08240" y="380880"/>
            <a:ext cx="517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000099"/>
                </a:solidFill>
                <a:uFillTx/>
                <a:latin typeface="Verdana"/>
              </a:rPr>
              <a:t>POLÍTICAS PARA EL ACCESO A LAS 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ortunidades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rcado objetivo pequeño lo que facilita la implementación de proyectos reales a bajo cos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cursos humanos loc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sumidores potenciales aún no satisfechos en la intensidad del uso de nuevas tecnolog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70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Consideracione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73" name=""/>
          <p:cNvSpPr/>
          <p:nvPr/>
        </p:nvSpPr>
        <p:spPr>
          <a:xfrm>
            <a:off x="8380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.- Fomento a la Competencia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- Normas que evolucionan de acuerdo a las Nuevas       Tecnologías (no significa cambio de reglas del juego)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- Participación de los actores en la generación de la normativas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- Confianza de Operadores para avanzar en la adecuación del marco regulatorio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- Fiscalización coherente con las premisas anteriores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- Incentivos hacia la autoregulación en los diferent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rcad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838080" y="304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onsider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9288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 lo que a Subtel respec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ELECOMUNICACIONES Y TECNOLOGÍAS DE LA INFORMACIÓN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stado Actual y Persp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219320" y="4950000"/>
            <a:ext cx="673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ristian Nicol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bsecretario de Telecomun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717000" y="61722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ubre -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19320" y="2743200"/>
            <a:ext cx="6933960" cy="137160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304812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Disponer de medios de acceso a lo largo de todo el territorio na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OPERADORES DE TELE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504960" y="1752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4920" y="1066680"/>
            <a:ext cx="22096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fonía f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914400"/>
            <a:ext cx="25905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4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esión “norm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1752480"/>
            <a:ext cx="327636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esión “FDT” (ru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114800"/>
            <a:ext cx="35812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5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fonía de larga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200400"/>
            <a:ext cx="327636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6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4267080"/>
            <a:ext cx="327672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1 Operador Satel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Verdana"/>
              </a:rPr>
              <a:t>1610-1621.35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Verdana"/>
              </a:rPr>
              <a:t>2483.5-2500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429000"/>
            <a:ext cx="327672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3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Banda 190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590920"/>
            <a:ext cx="327672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2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Banda 80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029200"/>
            <a:ext cx="441936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38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roveedores de acceso 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1219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1219320"/>
            <a:ext cx="14479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581280" y="289512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3581280"/>
            <a:ext cx="14479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5943600"/>
            <a:ext cx="441936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 Grandes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V 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F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744480" y="1353960"/>
            <a:ext cx="7631280" cy="5186520"/>
            <a:chOff x="744480" y="1353960"/>
            <a:chExt cx="7631280" cy="5186520"/>
          </a:xfrm>
        </p:grpSpPr>
        <p:sp>
          <p:nvSpPr>
            <p:cNvPr id="99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70400" y="3390840"/>
              <a:ext cx="190440" cy="687600"/>
            </a:xfrm>
            <a:custGeom>
              <a:avLst/>
              <a:gdLst/>
              <a:ahLst/>
              <a:rect l="l" t="t" r="r" b="b"/>
              <a:pathLst>
                <a:path w="120" h="433">
                  <a:moveTo>
                    <a:pt x="0" y="0"/>
                  </a:moveTo>
                  <a:lnTo>
                    <a:pt x="30" y="0"/>
                  </a:lnTo>
                  <a:lnTo>
                    <a:pt x="90" y="0"/>
                  </a:lnTo>
                  <a:lnTo>
                    <a:pt x="120" y="0"/>
                  </a:lnTo>
                  <a:lnTo>
                    <a:pt x="12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65800" y="2976480"/>
              <a:ext cx="164880" cy="41436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14" y="0"/>
                  </a:moveTo>
                  <a:lnTo>
                    <a:pt x="14" y="13"/>
                  </a:lnTo>
                  <a:lnTo>
                    <a:pt x="0" y="35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75000" y="3390840"/>
              <a:ext cx="285840" cy="687600"/>
            </a:xfrm>
            <a:custGeom>
              <a:avLst/>
              <a:gdLst/>
              <a:ahLst/>
              <a:rect l="l" t="t" r="r" b="b"/>
              <a:pathLst>
                <a:path w="180" h="433">
                  <a:moveTo>
                    <a:pt x="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60" y="0"/>
                  </a:lnTo>
                  <a:lnTo>
                    <a:pt x="18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33880" y="2846520"/>
              <a:ext cx="201600" cy="5443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0"/>
                  </a:moveTo>
                  <a:lnTo>
                    <a:pt x="13" y="0"/>
                  </a:lnTo>
                  <a:lnTo>
                    <a:pt x="17" y="4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60840" y="3390840"/>
              <a:ext cx="414360" cy="687600"/>
            </a:xfrm>
            <a:custGeom>
              <a:avLst/>
              <a:gdLst/>
              <a:ahLst/>
              <a:rect l="l" t="t" r="r" b="b"/>
              <a:pathLst>
                <a:path w="261" h="433">
                  <a:moveTo>
                    <a:pt x="0" y="0"/>
                  </a:moveTo>
                  <a:lnTo>
                    <a:pt x="29" y="0"/>
                  </a:lnTo>
                  <a:lnTo>
                    <a:pt x="59" y="0"/>
                  </a:lnTo>
                  <a:lnTo>
                    <a:pt x="82" y="0"/>
                  </a:lnTo>
                  <a:lnTo>
                    <a:pt x="111" y="0"/>
                  </a:lnTo>
                  <a:lnTo>
                    <a:pt x="141" y="0"/>
                  </a:lnTo>
                  <a:lnTo>
                    <a:pt x="171" y="0"/>
                  </a:lnTo>
                  <a:lnTo>
                    <a:pt x="201" y="0"/>
                  </a:lnTo>
                  <a:lnTo>
                    <a:pt x="231" y="0"/>
                  </a:lnTo>
                  <a:lnTo>
                    <a:pt x="261" y="0"/>
                  </a:lnTo>
                  <a:lnTo>
                    <a:pt x="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49840" y="3024360"/>
              <a:ext cx="297000" cy="3664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5" y="0"/>
                  </a:moveTo>
                  <a:lnTo>
                    <a:pt x="25" y="13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60840" y="3390840"/>
              <a:ext cx="900000" cy="687600"/>
            </a:xfrm>
            <a:custGeom>
              <a:avLst/>
              <a:gdLst/>
              <a:ahLst/>
              <a:rect l="l" t="t" r="r" b="b"/>
              <a:pathLst>
                <a:path w="567" h="433">
                  <a:moveTo>
                    <a:pt x="261" y="0"/>
                  </a:moveTo>
                  <a:lnTo>
                    <a:pt x="283" y="8"/>
                  </a:lnTo>
                  <a:lnTo>
                    <a:pt x="313" y="8"/>
                  </a:lnTo>
                  <a:lnTo>
                    <a:pt x="373" y="8"/>
                  </a:lnTo>
                  <a:lnTo>
                    <a:pt x="403" y="8"/>
                  </a:lnTo>
                  <a:lnTo>
                    <a:pt x="425" y="15"/>
                  </a:lnTo>
                  <a:lnTo>
                    <a:pt x="455" y="15"/>
                  </a:lnTo>
                  <a:lnTo>
                    <a:pt x="515" y="23"/>
                  </a:lnTo>
                  <a:lnTo>
                    <a:pt x="537" y="23"/>
                  </a:lnTo>
                  <a:lnTo>
                    <a:pt x="567" y="23"/>
                  </a:lnTo>
                  <a:lnTo>
                    <a:pt x="0" y="433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00560" y="3013200"/>
              <a:ext cx="284400" cy="4014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4" y="0"/>
                  </a:moveTo>
                  <a:lnTo>
                    <a:pt x="24" y="13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65440" y="3390840"/>
              <a:ext cx="995400" cy="687600"/>
            </a:xfrm>
            <a:custGeom>
              <a:avLst/>
              <a:gdLst/>
              <a:ahLst/>
              <a:rect l="l" t="t" r="r" b="b"/>
              <a:pathLst>
                <a:path w="627" h="433">
                  <a:moveTo>
                    <a:pt x="0" y="30"/>
                  </a:moveTo>
                  <a:lnTo>
                    <a:pt x="29" y="30"/>
                  </a:lnTo>
                  <a:lnTo>
                    <a:pt x="82" y="23"/>
                  </a:lnTo>
                  <a:lnTo>
                    <a:pt x="112" y="23"/>
                  </a:lnTo>
                  <a:lnTo>
                    <a:pt x="141" y="15"/>
                  </a:lnTo>
                  <a:lnTo>
                    <a:pt x="194" y="15"/>
                  </a:lnTo>
                  <a:lnTo>
                    <a:pt x="224" y="8"/>
                  </a:lnTo>
                  <a:lnTo>
                    <a:pt x="253" y="8"/>
                  </a:lnTo>
                  <a:lnTo>
                    <a:pt x="306" y="8"/>
                  </a:lnTo>
                  <a:lnTo>
                    <a:pt x="335" y="8"/>
                  </a:lnTo>
                  <a:lnTo>
                    <a:pt x="365" y="0"/>
                  </a:lnTo>
                  <a:lnTo>
                    <a:pt x="425" y="0"/>
                  </a:lnTo>
                  <a:lnTo>
                    <a:pt x="447" y="0"/>
                  </a:lnTo>
                  <a:lnTo>
                    <a:pt x="627" y="43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2894040"/>
              <a:ext cx="415800" cy="52056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0" y="0"/>
                  </a:moveTo>
                  <a:lnTo>
                    <a:pt x="13" y="0"/>
                  </a:lnTo>
                  <a:lnTo>
                    <a:pt x="35" y="4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60840" y="3427560"/>
              <a:ext cx="1065240" cy="650880"/>
            </a:xfrm>
            <a:custGeom>
              <a:avLst/>
              <a:gdLst/>
              <a:ahLst/>
              <a:rect l="l" t="t" r="r" b="b"/>
              <a:pathLst>
                <a:path w="671" h="410">
                  <a:moveTo>
                    <a:pt x="567" y="0"/>
                  </a:moveTo>
                  <a:lnTo>
                    <a:pt x="597" y="7"/>
                  </a:lnTo>
                  <a:lnTo>
                    <a:pt x="649" y="7"/>
                  </a:lnTo>
                  <a:lnTo>
                    <a:pt x="671" y="15"/>
                  </a:lnTo>
                  <a:lnTo>
                    <a:pt x="0" y="410"/>
                  </a:lnTo>
                  <a:lnTo>
                    <a:pt x="56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54800" y="3083040"/>
              <a:ext cx="309600" cy="3553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6" y="0"/>
                  </a:moveTo>
                  <a:lnTo>
                    <a:pt x="26" y="13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60840" y="3451320"/>
              <a:ext cx="1397160" cy="627120"/>
            </a:xfrm>
            <a:custGeom>
              <a:avLst/>
              <a:gdLst/>
              <a:ahLst/>
              <a:rect l="l" t="t" r="r" b="b"/>
              <a:pathLst>
                <a:path w="880" h="395">
                  <a:moveTo>
                    <a:pt x="671" y="0"/>
                  </a:moveTo>
                  <a:lnTo>
                    <a:pt x="701" y="0"/>
                  </a:lnTo>
                  <a:lnTo>
                    <a:pt x="753" y="7"/>
                  </a:lnTo>
                  <a:lnTo>
                    <a:pt x="776" y="14"/>
                  </a:lnTo>
                  <a:lnTo>
                    <a:pt x="806" y="14"/>
                  </a:lnTo>
                  <a:lnTo>
                    <a:pt x="858" y="22"/>
                  </a:lnTo>
                  <a:lnTo>
                    <a:pt x="880" y="29"/>
                  </a:lnTo>
                  <a:lnTo>
                    <a:pt x="0" y="39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03920" y="3048120"/>
              <a:ext cx="509400" cy="425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3" y="0"/>
                  </a:moveTo>
                  <a:lnTo>
                    <a:pt x="30" y="0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14720" y="3438360"/>
              <a:ext cx="1446120" cy="640080"/>
            </a:xfrm>
            <a:custGeom>
              <a:avLst/>
              <a:gdLst/>
              <a:ahLst/>
              <a:rect l="l" t="t" r="r" b="b"/>
              <a:pathLst>
                <a:path w="911" h="403">
                  <a:moveTo>
                    <a:pt x="0" y="37"/>
                  </a:moveTo>
                  <a:lnTo>
                    <a:pt x="30" y="37"/>
                  </a:lnTo>
                  <a:lnTo>
                    <a:pt x="52" y="30"/>
                  </a:lnTo>
                  <a:lnTo>
                    <a:pt x="104" y="22"/>
                  </a:lnTo>
                  <a:lnTo>
                    <a:pt x="127" y="22"/>
                  </a:lnTo>
                  <a:lnTo>
                    <a:pt x="157" y="15"/>
                  </a:lnTo>
                  <a:lnTo>
                    <a:pt x="179" y="15"/>
                  </a:lnTo>
                  <a:lnTo>
                    <a:pt x="231" y="8"/>
                  </a:lnTo>
                  <a:lnTo>
                    <a:pt x="261" y="0"/>
                  </a:lnTo>
                  <a:lnTo>
                    <a:pt x="284" y="0"/>
                  </a:lnTo>
                  <a:lnTo>
                    <a:pt x="911" y="40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13120" y="3024360"/>
              <a:ext cx="403200" cy="448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0" y="0"/>
                  </a:moveTo>
                  <a:lnTo>
                    <a:pt x="13" y="0"/>
                  </a:lnTo>
                  <a:lnTo>
                    <a:pt x="34" y="38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25520" y="3497400"/>
              <a:ext cx="2335320" cy="581040"/>
            </a:xfrm>
            <a:custGeom>
              <a:avLst/>
              <a:gdLst/>
              <a:ahLst/>
              <a:rect l="l" t="t" r="r" b="b"/>
              <a:pathLst>
                <a:path w="1471" h="366">
                  <a:moveTo>
                    <a:pt x="0" y="164"/>
                  </a:moveTo>
                  <a:lnTo>
                    <a:pt x="15" y="157"/>
                  </a:lnTo>
                  <a:lnTo>
                    <a:pt x="30" y="150"/>
                  </a:lnTo>
                  <a:lnTo>
                    <a:pt x="60" y="135"/>
                  </a:lnTo>
                  <a:lnTo>
                    <a:pt x="75" y="127"/>
                  </a:lnTo>
                  <a:lnTo>
                    <a:pt x="90" y="120"/>
                  </a:lnTo>
                  <a:lnTo>
                    <a:pt x="105" y="112"/>
                  </a:lnTo>
                  <a:lnTo>
                    <a:pt x="120" y="112"/>
                  </a:lnTo>
                  <a:lnTo>
                    <a:pt x="157" y="97"/>
                  </a:lnTo>
                  <a:lnTo>
                    <a:pt x="172" y="90"/>
                  </a:lnTo>
                  <a:lnTo>
                    <a:pt x="194" y="82"/>
                  </a:lnTo>
                  <a:lnTo>
                    <a:pt x="209" y="82"/>
                  </a:lnTo>
                  <a:lnTo>
                    <a:pt x="254" y="67"/>
                  </a:lnTo>
                  <a:lnTo>
                    <a:pt x="269" y="60"/>
                  </a:lnTo>
                  <a:lnTo>
                    <a:pt x="291" y="60"/>
                  </a:lnTo>
                  <a:lnTo>
                    <a:pt x="314" y="53"/>
                  </a:lnTo>
                  <a:lnTo>
                    <a:pt x="336" y="45"/>
                  </a:lnTo>
                  <a:lnTo>
                    <a:pt x="373" y="38"/>
                  </a:lnTo>
                  <a:lnTo>
                    <a:pt x="396" y="30"/>
                  </a:lnTo>
                  <a:lnTo>
                    <a:pt x="418" y="30"/>
                  </a:lnTo>
                  <a:lnTo>
                    <a:pt x="441" y="23"/>
                  </a:lnTo>
                  <a:lnTo>
                    <a:pt x="470" y="15"/>
                  </a:lnTo>
                  <a:lnTo>
                    <a:pt x="515" y="8"/>
                  </a:lnTo>
                  <a:lnTo>
                    <a:pt x="538" y="8"/>
                  </a:lnTo>
                  <a:lnTo>
                    <a:pt x="560" y="0"/>
                  </a:lnTo>
                  <a:lnTo>
                    <a:pt x="1471" y="366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08320" y="3189240"/>
              <a:ext cx="285480" cy="42696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0"/>
                  </a:moveTo>
                  <a:lnTo>
                    <a:pt x="13" y="0"/>
                  </a:lnTo>
                  <a:lnTo>
                    <a:pt x="24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60840" y="3497400"/>
              <a:ext cx="2511360" cy="581040"/>
            </a:xfrm>
            <a:custGeom>
              <a:avLst/>
              <a:gdLst/>
              <a:ahLst/>
              <a:rect l="l" t="t" r="r" b="b"/>
              <a:pathLst>
                <a:path w="1582" h="366">
                  <a:moveTo>
                    <a:pt x="880" y="0"/>
                  </a:moveTo>
                  <a:lnTo>
                    <a:pt x="903" y="0"/>
                  </a:lnTo>
                  <a:lnTo>
                    <a:pt x="955" y="8"/>
                  </a:lnTo>
                  <a:lnTo>
                    <a:pt x="977" y="15"/>
                  </a:lnTo>
                  <a:lnTo>
                    <a:pt x="1000" y="15"/>
                  </a:lnTo>
                  <a:lnTo>
                    <a:pt x="1044" y="30"/>
                  </a:lnTo>
                  <a:lnTo>
                    <a:pt x="1067" y="30"/>
                  </a:lnTo>
                  <a:lnTo>
                    <a:pt x="1089" y="38"/>
                  </a:lnTo>
                  <a:lnTo>
                    <a:pt x="1134" y="45"/>
                  </a:lnTo>
                  <a:lnTo>
                    <a:pt x="1156" y="53"/>
                  </a:lnTo>
                  <a:lnTo>
                    <a:pt x="1171" y="60"/>
                  </a:lnTo>
                  <a:lnTo>
                    <a:pt x="1216" y="67"/>
                  </a:lnTo>
                  <a:lnTo>
                    <a:pt x="1231" y="75"/>
                  </a:lnTo>
                  <a:lnTo>
                    <a:pt x="1253" y="82"/>
                  </a:lnTo>
                  <a:lnTo>
                    <a:pt x="1291" y="90"/>
                  </a:lnTo>
                  <a:lnTo>
                    <a:pt x="1306" y="97"/>
                  </a:lnTo>
                  <a:lnTo>
                    <a:pt x="1328" y="105"/>
                  </a:lnTo>
                  <a:lnTo>
                    <a:pt x="1358" y="112"/>
                  </a:lnTo>
                  <a:lnTo>
                    <a:pt x="1380" y="120"/>
                  </a:lnTo>
                  <a:lnTo>
                    <a:pt x="1395" y="127"/>
                  </a:lnTo>
                  <a:lnTo>
                    <a:pt x="1425" y="142"/>
                  </a:lnTo>
                  <a:lnTo>
                    <a:pt x="1440" y="150"/>
                  </a:lnTo>
                  <a:lnTo>
                    <a:pt x="1455" y="157"/>
                  </a:lnTo>
                  <a:lnTo>
                    <a:pt x="1477" y="164"/>
                  </a:lnTo>
                  <a:lnTo>
                    <a:pt x="1492" y="172"/>
                  </a:lnTo>
                  <a:lnTo>
                    <a:pt x="1507" y="179"/>
                  </a:lnTo>
                  <a:lnTo>
                    <a:pt x="1530" y="194"/>
                  </a:lnTo>
                  <a:lnTo>
                    <a:pt x="1544" y="202"/>
                  </a:lnTo>
                  <a:lnTo>
                    <a:pt x="1552" y="209"/>
                  </a:lnTo>
                  <a:lnTo>
                    <a:pt x="1574" y="224"/>
                  </a:lnTo>
                  <a:lnTo>
                    <a:pt x="1582" y="232"/>
                  </a:lnTo>
                  <a:lnTo>
                    <a:pt x="0" y="366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45240" y="3308400"/>
              <a:ext cx="212760" cy="3427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8" y="0"/>
                  </a:moveTo>
                  <a:lnTo>
                    <a:pt x="5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48040" y="3757680"/>
              <a:ext cx="2512800" cy="320760"/>
            </a:xfrm>
            <a:custGeom>
              <a:avLst/>
              <a:gdLst/>
              <a:ahLst/>
              <a:rect l="l" t="t" r="r" b="b"/>
              <a:pathLst>
                <a:path w="1583" h="202">
                  <a:moveTo>
                    <a:pt x="0" y="68"/>
                  </a:moveTo>
                  <a:lnTo>
                    <a:pt x="8" y="60"/>
                  </a:lnTo>
                  <a:lnTo>
                    <a:pt x="15" y="53"/>
                  </a:lnTo>
                  <a:lnTo>
                    <a:pt x="30" y="45"/>
                  </a:lnTo>
                  <a:lnTo>
                    <a:pt x="38" y="38"/>
                  </a:lnTo>
                  <a:lnTo>
                    <a:pt x="60" y="23"/>
                  </a:lnTo>
                  <a:lnTo>
                    <a:pt x="75" y="15"/>
                  </a:lnTo>
                  <a:lnTo>
                    <a:pt x="82" y="8"/>
                  </a:lnTo>
                  <a:lnTo>
                    <a:pt x="97" y="0"/>
                  </a:lnTo>
                  <a:lnTo>
                    <a:pt x="112" y="0"/>
                  </a:lnTo>
                  <a:lnTo>
                    <a:pt x="1583" y="20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1160" y="3403440"/>
              <a:ext cx="320760" cy="40176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0" y="0"/>
                  </a:moveTo>
                  <a:lnTo>
                    <a:pt x="13" y="0"/>
                  </a:lnTo>
                  <a:lnTo>
                    <a:pt x="27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30320" y="3865680"/>
              <a:ext cx="2630520" cy="212760"/>
            </a:xfrm>
            <a:custGeom>
              <a:avLst/>
              <a:gdLst/>
              <a:ahLst/>
              <a:rect l="l" t="t" r="r" b="b"/>
              <a:pathLst>
                <a:path w="1657" h="134">
                  <a:moveTo>
                    <a:pt x="0" y="82"/>
                  </a:moveTo>
                  <a:lnTo>
                    <a:pt x="7" y="74"/>
                  </a:lnTo>
                  <a:lnTo>
                    <a:pt x="7" y="67"/>
                  </a:lnTo>
                  <a:lnTo>
                    <a:pt x="22" y="5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7" y="29"/>
                  </a:lnTo>
                  <a:lnTo>
                    <a:pt x="52" y="14"/>
                  </a:lnTo>
                  <a:lnTo>
                    <a:pt x="59" y="7"/>
                  </a:lnTo>
                  <a:lnTo>
                    <a:pt x="74" y="0"/>
                  </a:lnTo>
                  <a:lnTo>
                    <a:pt x="1657" y="13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22520" y="3911760"/>
              <a:ext cx="355680" cy="23760"/>
            </a:xfrm>
            <a:custGeom>
              <a:avLst/>
              <a:gdLst/>
              <a:ahLst/>
              <a:rect l="l" t="t" r="r" b="b"/>
              <a:pathLst>
                <a:path w="30" h="2">
                  <a:moveTo>
                    <a:pt x="0" y="0"/>
                  </a:moveTo>
                  <a:lnTo>
                    <a:pt x="13" y="0"/>
                  </a:lnTo>
                  <a:lnTo>
                    <a:pt x="30" y="2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17720" y="4065480"/>
              <a:ext cx="5284800" cy="1420920"/>
            </a:xfrm>
            <a:custGeom>
              <a:avLst/>
              <a:gdLst/>
              <a:ahLst/>
              <a:rect l="l" t="t" r="r" b="b"/>
              <a:pathLst>
                <a:path w="3329" h="895">
                  <a:moveTo>
                    <a:pt x="3329" y="0"/>
                  </a:moveTo>
                  <a:lnTo>
                    <a:pt x="3329" y="8"/>
                  </a:lnTo>
                  <a:lnTo>
                    <a:pt x="3321" y="23"/>
                  </a:lnTo>
                  <a:lnTo>
                    <a:pt x="3321" y="30"/>
                  </a:lnTo>
                  <a:lnTo>
                    <a:pt x="3321" y="38"/>
                  </a:lnTo>
                  <a:lnTo>
                    <a:pt x="3314" y="53"/>
                  </a:lnTo>
                  <a:lnTo>
                    <a:pt x="3314" y="60"/>
                  </a:lnTo>
                  <a:lnTo>
                    <a:pt x="3306" y="67"/>
                  </a:lnTo>
                  <a:lnTo>
                    <a:pt x="3299" y="82"/>
                  </a:lnTo>
                  <a:lnTo>
                    <a:pt x="3292" y="90"/>
                  </a:lnTo>
                  <a:lnTo>
                    <a:pt x="3284" y="97"/>
                  </a:lnTo>
                  <a:lnTo>
                    <a:pt x="3269" y="112"/>
                  </a:lnTo>
                  <a:lnTo>
                    <a:pt x="3262" y="120"/>
                  </a:lnTo>
                  <a:lnTo>
                    <a:pt x="3254" y="127"/>
                  </a:lnTo>
                  <a:lnTo>
                    <a:pt x="3239" y="142"/>
                  </a:lnTo>
                  <a:lnTo>
                    <a:pt x="3224" y="150"/>
                  </a:lnTo>
                  <a:lnTo>
                    <a:pt x="3217" y="157"/>
                  </a:lnTo>
                  <a:lnTo>
                    <a:pt x="3195" y="172"/>
                  </a:lnTo>
                  <a:lnTo>
                    <a:pt x="3180" y="179"/>
                  </a:lnTo>
                  <a:lnTo>
                    <a:pt x="3172" y="187"/>
                  </a:lnTo>
                  <a:lnTo>
                    <a:pt x="3142" y="194"/>
                  </a:lnTo>
                  <a:lnTo>
                    <a:pt x="3135" y="202"/>
                  </a:lnTo>
                  <a:lnTo>
                    <a:pt x="3120" y="209"/>
                  </a:lnTo>
                  <a:lnTo>
                    <a:pt x="3090" y="224"/>
                  </a:lnTo>
                  <a:lnTo>
                    <a:pt x="3075" y="232"/>
                  </a:lnTo>
                  <a:lnTo>
                    <a:pt x="3060" y="239"/>
                  </a:lnTo>
                  <a:lnTo>
                    <a:pt x="3023" y="246"/>
                  </a:lnTo>
                  <a:lnTo>
                    <a:pt x="3008" y="254"/>
                  </a:lnTo>
                  <a:lnTo>
                    <a:pt x="2993" y="261"/>
                  </a:lnTo>
                  <a:lnTo>
                    <a:pt x="2956" y="269"/>
                  </a:lnTo>
                  <a:lnTo>
                    <a:pt x="2941" y="276"/>
                  </a:lnTo>
                  <a:lnTo>
                    <a:pt x="2918" y="284"/>
                  </a:lnTo>
                  <a:lnTo>
                    <a:pt x="2881" y="291"/>
                  </a:lnTo>
                  <a:lnTo>
                    <a:pt x="2859" y="299"/>
                  </a:lnTo>
                  <a:lnTo>
                    <a:pt x="2836" y="306"/>
                  </a:lnTo>
                  <a:lnTo>
                    <a:pt x="2799" y="314"/>
                  </a:lnTo>
                  <a:lnTo>
                    <a:pt x="2777" y="321"/>
                  </a:lnTo>
                  <a:lnTo>
                    <a:pt x="2754" y="329"/>
                  </a:lnTo>
                  <a:lnTo>
                    <a:pt x="2709" y="336"/>
                  </a:lnTo>
                  <a:lnTo>
                    <a:pt x="2687" y="343"/>
                  </a:lnTo>
                  <a:lnTo>
                    <a:pt x="2665" y="343"/>
                  </a:lnTo>
                  <a:lnTo>
                    <a:pt x="2620" y="351"/>
                  </a:lnTo>
                  <a:lnTo>
                    <a:pt x="2590" y="358"/>
                  </a:lnTo>
                  <a:lnTo>
                    <a:pt x="2568" y="358"/>
                  </a:lnTo>
                  <a:lnTo>
                    <a:pt x="2523" y="373"/>
                  </a:lnTo>
                  <a:lnTo>
                    <a:pt x="2493" y="373"/>
                  </a:lnTo>
                  <a:lnTo>
                    <a:pt x="2471" y="381"/>
                  </a:lnTo>
                  <a:lnTo>
                    <a:pt x="2418" y="381"/>
                  </a:lnTo>
                  <a:lnTo>
                    <a:pt x="2396" y="388"/>
                  </a:lnTo>
                  <a:lnTo>
                    <a:pt x="2366" y="388"/>
                  </a:lnTo>
                  <a:lnTo>
                    <a:pt x="2314" y="396"/>
                  </a:lnTo>
                  <a:lnTo>
                    <a:pt x="2284" y="403"/>
                  </a:lnTo>
                  <a:lnTo>
                    <a:pt x="2262" y="403"/>
                  </a:lnTo>
                  <a:lnTo>
                    <a:pt x="2202" y="411"/>
                  </a:lnTo>
                  <a:lnTo>
                    <a:pt x="2180" y="411"/>
                  </a:lnTo>
                  <a:lnTo>
                    <a:pt x="2150" y="411"/>
                  </a:lnTo>
                  <a:lnTo>
                    <a:pt x="2090" y="418"/>
                  </a:lnTo>
                  <a:lnTo>
                    <a:pt x="2068" y="418"/>
                  </a:lnTo>
                  <a:lnTo>
                    <a:pt x="2038" y="418"/>
                  </a:lnTo>
                  <a:lnTo>
                    <a:pt x="1978" y="426"/>
                  </a:lnTo>
                  <a:lnTo>
                    <a:pt x="1948" y="426"/>
                  </a:lnTo>
                  <a:lnTo>
                    <a:pt x="1926" y="426"/>
                  </a:lnTo>
                  <a:lnTo>
                    <a:pt x="1866" y="426"/>
                  </a:lnTo>
                  <a:lnTo>
                    <a:pt x="1836" y="426"/>
                  </a:lnTo>
                  <a:lnTo>
                    <a:pt x="1806" y="433"/>
                  </a:lnTo>
                  <a:lnTo>
                    <a:pt x="1747" y="433"/>
                  </a:lnTo>
                  <a:lnTo>
                    <a:pt x="1724" y="433"/>
                  </a:lnTo>
                  <a:lnTo>
                    <a:pt x="1694" y="433"/>
                  </a:lnTo>
                  <a:lnTo>
                    <a:pt x="1635" y="433"/>
                  </a:lnTo>
                  <a:lnTo>
                    <a:pt x="1605" y="433"/>
                  </a:lnTo>
                  <a:lnTo>
                    <a:pt x="1575" y="433"/>
                  </a:lnTo>
                  <a:lnTo>
                    <a:pt x="1515" y="433"/>
                  </a:lnTo>
                  <a:lnTo>
                    <a:pt x="1485" y="426"/>
                  </a:lnTo>
                  <a:lnTo>
                    <a:pt x="1463" y="426"/>
                  </a:lnTo>
                  <a:lnTo>
                    <a:pt x="1403" y="426"/>
                  </a:lnTo>
                  <a:lnTo>
                    <a:pt x="1373" y="426"/>
                  </a:lnTo>
                  <a:lnTo>
                    <a:pt x="1344" y="426"/>
                  </a:lnTo>
                  <a:lnTo>
                    <a:pt x="1291" y="418"/>
                  </a:lnTo>
                  <a:lnTo>
                    <a:pt x="1262" y="418"/>
                  </a:lnTo>
                  <a:lnTo>
                    <a:pt x="1232" y="418"/>
                  </a:lnTo>
                  <a:lnTo>
                    <a:pt x="1179" y="411"/>
                  </a:lnTo>
                  <a:lnTo>
                    <a:pt x="1150" y="411"/>
                  </a:lnTo>
                  <a:lnTo>
                    <a:pt x="1120" y="411"/>
                  </a:lnTo>
                  <a:lnTo>
                    <a:pt x="1067" y="403"/>
                  </a:lnTo>
                  <a:lnTo>
                    <a:pt x="1038" y="403"/>
                  </a:lnTo>
                  <a:lnTo>
                    <a:pt x="1015" y="396"/>
                  </a:lnTo>
                  <a:lnTo>
                    <a:pt x="963" y="388"/>
                  </a:lnTo>
                  <a:lnTo>
                    <a:pt x="933" y="388"/>
                  </a:lnTo>
                  <a:lnTo>
                    <a:pt x="911" y="381"/>
                  </a:lnTo>
                  <a:lnTo>
                    <a:pt x="858" y="381"/>
                  </a:lnTo>
                  <a:lnTo>
                    <a:pt x="829" y="373"/>
                  </a:lnTo>
                  <a:lnTo>
                    <a:pt x="806" y="373"/>
                  </a:lnTo>
                  <a:lnTo>
                    <a:pt x="754" y="358"/>
                  </a:lnTo>
                  <a:lnTo>
                    <a:pt x="732" y="358"/>
                  </a:lnTo>
                  <a:lnTo>
                    <a:pt x="709" y="351"/>
                  </a:lnTo>
                  <a:lnTo>
                    <a:pt x="664" y="343"/>
                  </a:lnTo>
                  <a:lnTo>
                    <a:pt x="635" y="343"/>
                  </a:lnTo>
                  <a:lnTo>
                    <a:pt x="612" y="336"/>
                  </a:lnTo>
                  <a:lnTo>
                    <a:pt x="567" y="329"/>
                  </a:lnTo>
                  <a:lnTo>
                    <a:pt x="552" y="321"/>
                  </a:lnTo>
                  <a:lnTo>
                    <a:pt x="530" y="314"/>
                  </a:lnTo>
                  <a:lnTo>
                    <a:pt x="485" y="306"/>
                  </a:lnTo>
                  <a:lnTo>
                    <a:pt x="463" y="299"/>
                  </a:lnTo>
                  <a:lnTo>
                    <a:pt x="448" y="291"/>
                  </a:lnTo>
                  <a:lnTo>
                    <a:pt x="403" y="284"/>
                  </a:lnTo>
                  <a:lnTo>
                    <a:pt x="388" y="276"/>
                  </a:lnTo>
                  <a:lnTo>
                    <a:pt x="366" y="269"/>
                  </a:lnTo>
                  <a:lnTo>
                    <a:pt x="336" y="261"/>
                  </a:lnTo>
                  <a:lnTo>
                    <a:pt x="314" y="254"/>
                  </a:lnTo>
                  <a:lnTo>
                    <a:pt x="299" y="246"/>
                  </a:lnTo>
                  <a:lnTo>
                    <a:pt x="269" y="239"/>
                  </a:lnTo>
                  <a:lnTo>
                    <a:pt x="254" y="232"/>
                  </a:lnTo>
                  <a:lnTo>
                    <a:pt x="239" y="224"/>
                  </a:lnTo>
                  <a:lnTo>
                    <a:pt x="209" y="209"/>
                  </a:lnTo>
                  <a:lnTo>
                    <a:pt x="194" y="202"/>
                  </a:lnTo>
                  <a:lnTo>
                    <a:pt x="179" y="194"/>
                  </a:lnTo>
                  <a:lnTo>
                    <a:pt x="157" y="187"/>
                  </a:lnTo>
                  <a:lnTo>
                    <a:pt x="142" y="179"/>
                  </a:lnTo>
                  <a:lnTo>
                    <a:pt x="127" y="172"/>
                  </a:lnTo>
                  <a:lnTo>
                    <a:pt x="112" y="157"/>
                  </a:lnTo>
                  <a:lnTo>
                    <a:pt x="97" y="150"/>
                  </a:lnTo>
                  <a:lnTo>
                    <a:pt x="90" y="142"/>
                  </a:lnTo>
                  <a:lnTo>
                    <a:pt x="67" y="127"/>
                  </a:lnTo>
                  <a:lnTo>
                    <a:pt x="60" y="120"/>
                  </a:lnTo>
                  <a:lnTo>
                    <a:pt x="52" y="112"/>
                  </a:lnTo>
                  <a:lnTo>
                    <a:pt x="38" y="97"/>
                  </a:lnTo>
                  <a:lnTo>
                    <a:pt x="38" y="90"/>
                  </a:lnTo>
                  <a:lnTo>
                    <a:pt x="30" y="82"/>
                  </a:lnTo>
                  <a:lnTo>
                    <a:pt x="15" y="67"/>
                  </a:lnTo>
                  <a:lnTo>
                    <a:pt x="15" y="60"/>
                  </a:lnTo>
                  <a:lnTo>
                    <a:pt x="8" y="53"/>
                  </a:lnTo>
                  <a:lnTo>
                    <a:pt x="8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463"/>
                  </a:lnTo>
                  <a:lnTo>
                    <a:pt x="0" y="470"/>
                  </a:lnTo>
                  <a:lnTo>
                    <a:pt x="0" y="485"/>
                  </a:lnTo>
                  <a:lnTo>
                    <a:pt x="0" y="493"/>
                  </a:lnTo>
                  <a:lnTo>
                    <a:pt x="8" y="500"/>
                  </a:lnTo>
                  <a:lnTo>
                    <a:pt x="8" y="515"/>
                  </a:lnTo>
                  <a:lnTo>
                    <a:pt x="15" y="522"/>
                  </a:lnTo>
                  <a:lnTo>
                    <a:pt x="15" y="530"/>
                  </a:lnTo>
                  <a:lnTo>
                    <a:pt x="30" y="545"/>
                  </a:lnTo>
                  <a:lnTo>
                    <a:pt x="38" y="552"/>
                  </a:lnTo>
                  <a:lnTo>
                    <a:pt x="38" y="560"/>
                  </a:lnTo>
                  <a:lnTo>
                    <a:pt x="52" y="575"/>
                  </a:lnTo>
                  <a:lnTo>
                    <a:pt x="60" y="582"/>
                  </a:lnTo>
                  <a:lnTo>
                    <a:pt x="67" y="590"/>
                  </a:lnTo>
                  <a:lnTo>
                    <a:pt x="90" y="605"/>
                  </a:lnTo>
                  <a:lnTo>
                    <a:pt x="97" y="612"/>
                  </a:lnTo>
                  <a:lnTo>
                    <a:pt x="112" y="619"/>
                  </a:lnTo>
                  <a:lnTo>
                    <a:pt x="127" y="634"/>
                  </a:lnTo>
                  <a:lnTo>
                    <a:pt x="142" y="642"/>
                  </a:lnTo>
                  <a:lnTo>
                    <a:pt x="157" y="649"/>
                  </a:lnTo>
                  <a:lnTo>
                    <a:pt x="179" y="657"/>
                  </a:lnTo>
                  <a:lnTo>
                    <a:pt x="194" y="664"/>
                  </a:lnTo>
                  <a:lnTo>
                    <a:pt x="209" y="672"/>
                  </a:lnTo>
                  <a:lnTo>
                    <a:pt x="239" y="687"/>
                  </a:lnTo>
                  <a:lnTo>
                    <a:pt x="254" y="694"/>
                  </a:lnTo>
                  <a:lnTo>
                    <a:pt x="269" y="701"/>
                  </a:lnTo>
                  <a:lnTo>
                    <a:pt x="299" y="709"/>
                  </a:lnTo>
                  <a:lnTo>
                    <a:pt x="314" y="716"/>
                  </a:lnTo>
                  <a:lnTo>
                    <a:pt x="336" y="724"/>
                  </a:lnTo>
                  <a:lnTo>
                    <a:pt x="366" y="731"/>
                  </a:lnTo>
                  <a:lnTo>
                    <a:pt x="388" y="739"/>
                  </a:lnTo>
                  <a:lnTo>
                    <a:pt x="403" y="746"/>
                  </a:lnTo>
                  <a:lnTo>
                    <a:pt x="448" y="754"/>
                  </a:lnTo>
                  <a:lnTo>
                    <a:pt x="463" y="761"/>
                  </a:lnTo>
                  <a:lnTo>
                    <a:pt x="485" y="769"/>
                  </a:lnTo>
                  <a:lnTo>
                    <a:pt x="530" y="776"/>
                  </a:lnTo>
                  <a:lnTo>
                    <a:pt x="552" y="784"/>
                  </a:lnTo>
                  <a:lnTo>
                    <a:pt x="567" y="791"/>
                  </a:lnTo>
                  <a:lnTo>
                    <a:pt x="612" y="798"/>
                  </a:lnTo>
                  <a:lnTo>
                    <a:pt x="635" y="806"/>
                  </a:lnTo>
                  <a:lnTo>
                    <a:pt x="664" y="806"/>
                  </a:lnTo>
                  <a:lnTo>
                    <a:pt x="709" y="813"/>
                  </a:lnTo>
                  <a:lnTo>
                    <a:pt x="732" y="821"/>
                  </a:lnTo>
                  <a:lnTo>
                    <a:pt x="754" y="821"/>
                  </a:lnTo>
                  <a:lnTo>
                    <a:pt x="806" y="836"/>
                  </a:lnTo>
                  <a:lnTo>
                    <a:pt x="829" y="836"/>
                  </a:lnTo>
                  <a:lnTo>
                    <a:pt x="858" y="843"/>
                  </a:lnTo>
                  <a:lnTo>
                    <a:pt x="911" y="843"/>
                  </a:lnTo>
                  <a:lnTo>
                    <a:pt x="933" y="851"/>
                  </a:lnTo>
                  <a:lnTo>
                    <a:pt x="963" y="851"/>
                  </a:lnTo>
                  <a:lnTo>
                    <a:pt x="1015" y="858"/>
                  </a:lnTo>
                  <a:lnTo>
                    <a:pt x="1038" y="866"/>
                  </a:lnTo>
                  <a:lnTo>
                    <a:pt x="1067" y="866"/>
                  </a:lnTo>
                  <a:lnTo>
                    <a:pt x="1120" y="873"/>
                  </a:lnTo>
                  <a:lnTo>
                    <a:pt x="1150" y="873"/>
                  </a:lnTo>
                  <a:lnTo>
                    <a:pt x="1179" y="873"/>
                  </a:lnTo>
                  <a:lnTo>
                    <a:pt x="1232" y="880"/>
                  </a:lnTo>
                  <a:lnTo>
                    <a:pt x="1262" y="880"/>
                  </a:lnTo>
                  <a:lnTo>
                    <a:pt x="1291" y="880"/>
                  </a:lnTo>
                  <a:lnTo>
                    <a:pt x="1344" y="888"/>
                  </a:lnTo>
                  <a:lnTo>
                    <a:pt x="1373" y="888"/>
                  </a:lnTo>
                  <a:lnTo>
                    <a:pt x="1403" y="888"/>
                  </a:lnTo>
                  <a:lnTo>
                    <a:pt x="1463" y="888"/>
                  </a:lnTo>
                  <a:lnTo>
                    <a:pt x="1485" y="888"/>
                  </a:lnTo>
                  <a:lnTo>
                    <a:pt x="1515" y="895"/>
                  </a:lnTo>
                  <a:lnTo>
                    <a:pt x="1575" y="895"/>
                  </a:lnTo>
                  <a:lnTo>
                    <a:pt x="1605" y="895"/>
                  </a:lnTo>
                  <a:lnTo>
                    <a:pt x="1635" y="895"/>
                  </a:lnTo>
                  <a:lnTo>
                    <a:pt x="1694" y="895"/>
                  </a:lnTo>
                  <a:lnTo>
                    <a:pt x="1724" y="895"/>
                  </a:lnTo>
                  <a:lnTo>
                    <a:pt x="1747" y="895"/>
                  </a:lnTo>
                  <a:lnTo>
                    <a:pt x="1806" y="895"/>
                  </a:lnTo>
                  <a:lnTo>
                    <a:pt x="1836" y="888"/>
                  </a:lnTo>
                  <a:lnTo>
                    <a:pt x="1866" y="888"/>
                  </a:lnTo>
                  <a:lnTo>
                    <a:pt x="1926" y="888"/>
                  </a:lnTo>
                  <a:lnTo>
                    <a:pt x="1948" y="888"/>
                  </a:lnTo>
                  <a:lnTo>
                    <a:pt x="1978" y="888"/>
                  </a:lnTo>
                  <a:lnTo>
                    <a:pt x="2038" y="880"/>
                  </a:lnTo>
                  <a:lnTo>
                    <a:pt x="2068" y="880"/>
                  </a:lnTo>
                  <a:lnTo>
                    <a:pt x="2090" y="880"/>
                  </a:lnTo>
                  <a:lnTo>
                    <a:pt x="2150" y="873"/>
                  </a:lnTo>
                  <a:lnTo>
                    <a:pt x="2180" y="873"/>
                  </a:lnTo>
                  <a:lnTo>
                    <a:pt x="2202" y="873"/>
                  </a:lnTo>
                  <a:lnTo>
                    <a:pt x="2262" y="866"/>
                  </a:lnTo>
                  <a:lnTo>
                    <a:pt x="2284" y="866"/>
                  </a:lnTo>
                  <a:lnTo>
                    <a:pt x="2314" y="858"/>
                  </a:lnTo>
                  <a:lnTo>
                    <a:pt x="2366" y="851"/>
                  </a:lnTo>
                  <a:lnTo>
                    <a:pt x="2396" y="851"/>
                  </a:lnTo>
                  <a:lnTo>
                    <a:pt x="2418" y="843"/>
                  </a:lnTo>
                  <a:lnTo>
                    <a:pt x="2471" y="843"/>
                  </a:lnTo>
                  <a:lnTo>
                    <a:pt x="2493" y="836"/>
                  </a:lnTo>
                  <a:lnTo>
                    <a:pt x="2523" y="836"/>
                  </a:lnTo>
                  <a:lnTo>
                    <a:pt x="2568" y="821"/>
                  </a:lnTo>
                  <a:lnTo>
                    <a:pt x="2590" y="821"/>
                  </a:lnTo>
                  <a:lnTo>
                    <a:pt x="2620" y="813"/>
                  </a:lnTo>
                  <a:lnTo>
                    <a:pt x="2665" y="806"/>
                  </a:lnTo>
                  <a:lnTo>
                    <a:pt x="2687" y="806"/>
                  </a:lnTo>
                  <a:lnTo>
                    <a:pt x="2709" y="798"/>
                  </a:lnTo>
                  <a:lnTo>
                    <a:pt x="2754" y="791"/>
                  </a:lnTo>
                  <a:lnTo>
                    <a:pt x="2777" y="784"/>
                  </a:lnTo>
                  <a:lnTo>
                    <a:pt x="2799" y="776"/>
                  </a:lnTo>
                  <a:lnTo>
                    <a:pt x="2836" y="769"/>
                  </a:lnTo>
                  <a:lnTo>
                    <a:pt x="2859" y="761"/>
                  </a:lnTo>
                  <a:lnTo>
                    <a:pt x="2881" y="754"/>
                  </a:lnTo>
                  <a:lnTo>
                    <a:pt x="2918" y="746"/>
                  </a:lnTo>
                  <a:lnTo>
                    <a:pt x="2941" y="739"/>
                  </a:lnTo>
                  <a:lnTo>
                    <a:pt x="2956" y="731"/>
                  </a:lnTo>
                  <a:lnTo>
                    <a:pt x="2993" y="724"/>
                  </a:lnTo>
                  <a:lnTo>
                    <a:pt x="3008" y="716"/>
                  </a:lnTo>
                  <a:lnTo>
                    <a:pt x="3023" y="709"/>
                  </a:lnTo>
                  <a:lnTo>
                    <a:pt x="3060" y="701"/>
                  </a:lnTo>
                  <a:lnTo>
                    <a:pt x="3075" y="694"/>
                  </a:lnTo>
                  <a:lnTo>
                    <a:pt x="3090" y="687"/>
                  </a:lnTo>
                  <a:lnTo>
                    <a:pt x="3120" y="672"/>
                  </a:lnTo>
                  <a:lnTo>
                    <a:pt x="3135" y="664"/>
                  </a:lnTo>
                  <a:lnTo>
                    <a:pt x="3142" y="657"/>
                  </a:lnTo>
                  <a:lnTo>
                    <a:pt x="3172" y="649"/>
                  </a:lnTo>
                  <a:lnTo>
                    <a:pt x="3180" y="642"/>
                  </a:lnTo>
                  <a:lnTo>
                    <a:pt x="3195" y="634"/>
                  </a:lnTo>
                  <a:lnTo>
                    <a:pt x="3217" y="619"/>
                  </a:lnTo>
                  <a:lnTo>
                    <a:pt x="3224" y="612"/>
                  </a:lnTo>
                  <a:lnTo>
                    <a:pt x="3239" y="605"/>
                  </a:lnTo>
                  <a:lnTo>
                    <a:pt x="3254" y="590"/>
                  </a:lnTo>
                  <a:lnTo>
                    <a:pt x="3262" y="582"/>
                  </a:lnTo>
                  <a:lnTo>
                    <a:pt x="3269" y="575"/>
                  </a:lnTo>
                  <a:lnTo>
                    <a:pt x="3284" y="560"/>
                  </a:lnTo>
                  <a:lnTo>
                    <a:pt x="3292" y="552"/>
                  </a:lnTo>
                  <a:lnTo>
                    <a:pt x="3299" y="545"/>
                  </a:lnTo>
                  <a:lnTo>
                    <a:pt x="3306" y="530"/>
                  </a:lnTo>
                  <a:lnTo>
                    <a:pt x="3314" y="522"/>
                  </a:lnTo>
                  <a:lnTo>
                    <a:pt x="3314" y="515"/>
                  </a:lnTo>
                  <a:lnTo>
                    <a:pt x="3321" y="500"/>
                  </a:lnTo>
                  <a:lnTo>
                    <a:pt x="3321" y="493"/>
                  </a:lnTo>
                  <a:lnTo>
                    <a:pt x="3321" y="485"/>
                  </a:lnTo>
                  <a:lnTo>
                    <a:pt x="3329" y="470"/>
                  </a:lnTo>
                  <a:lnTo>
                    <a:pt x="3329" y="463"/>
                  </a:lnTo>
                  <a:lnTo>
                    <a:pt x="3329" y="0"/>
                  </a:lnTo>
                  <a:close/>
                </a:path>
              </a:pathLst>
            </a:custGeom>
            <a:solidFill>
              <a:srgbClr val="8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17720" y="3865680"/>
              <a:ext cx="5284800" cy="898560"/>
            </a:xfrm>
            <a:custGeom>
              <a:avLst/>
              <a:gdLst/>
              <a:ahLst/>
              <a:rect l="l" t="t" r="r" b="b"/>
              <a:pathLst>
                <a:path w="3329" h="566">
                  <a:moveTo>
                    <a:pt x="3247" y="0"/>
                  </a:moveTo>
                  <a:lnTo>
                    <a:pt x="3254" y="7"/>
                  </a:lnTo>
                  <a:lnTo>
                    <a:pt x="3269" y="22"/>
                  </a:lnTo>
                  <a:lnTo>
                    <a:pt x="3277" y="29"/>
                  </a:lnTo>
                  <a:lnTo>
                    <a:pt x="3284" y="37"/>
                  </a:lnTo>
                  <a:lnTo>
                    <a:pt x="3299" y="52"/>
                  </a:lnTo>
                  <a:lnTo>
                    <a:pt x="3299" y="59"/>
                  </a:lnTo>
                  <a:lnTo>
                    <a:pt x="3306" y="67"/>
                  </a:lnTo>
                  <a:lnTo>
                    <a:pt x="3314" y="82"/>
                  </a:lnTo>
                  <a:lnTo>
                    <a:pt x="3321" y="89"/>
                  </a:lnTo>
                  <a:lnTo>
                    <a:pt x="3321" y="97"/>
                  </a:lnTo>
                  <a:lnTo>
                    <a:pt x="3321" y="104"/>
                  </a:lnTo>
                  <a:lnTo>
                    <a:pt x="3329" y="119"/>
                  </a:lnTo>
                  <a:lnTo>
                    <a:pt x="3329" y="126"/>
                  </a:lnTo>
                  <a:lnTo>
                    <a:pt x="3329" y="134"/>
                  </a:lnTo>
                  <a:lnTo>
                    <a:pt x="3329" y="149"/>
                  </a:lnTo>
                  <a:lnTo>
                    <a:pt x="3321" y="156"/>
                  </a:lnTo>
                  <a:lnTo>
                    <a:pt x="3321" y="164"/>
                  </a:lnTo>
                  <a:lnTo>
                    <a:pt x="3321" y="179"/>
                  </a:lnTo>
                  <a:lnTo>
                    <a:pt x="3314" y="186"/>
                  </a:lnTo>
                  <a:lnTo>
                    <a:pt x="3314" y="193"/>
                  </a:lnTo>
                  <a:lnTo>
                    <a:pt x="3299" y="208"/>
                  </a:lnTo>
                  <a:lnTo>
                    <a:pt x="3299" y="216"/>
                  </a:lnTo>
                  <a:lnTo>
                    <a:pt x="3292" y="223"/>
                  </a:lnTo>
                  <a:lnTo>
                    <a:pt x="3277" y="238"/>
                  </a:lnTo>
                  <a:lnTo>
                    <a:pt x="3269" y="246"/>
                  </a:lnTo>
                  <a:lnTo>
                    <a:pt x="3262" y="253"/>
                  </a:lnTo>
                  <a:lnTo>
                    <a:pt x="3254" y="261"/>
                  </a:lnTo>
                  <a:lnTo>
                    <a:pt x="3239" y="276"/>
                  </a:lnTo>
                  <a:lnTo>
                    <a:pt x="3224" y="283"/>
                  </a:lnTo>
                  <a:lnTo>
                    <a:pt x="3217" y="290"/>
                  </a:lnTo>
                  <a:lnTo>
                    <a:pt x="3195" y="298"/>
                  </a:lnTo>
                  <a:lnTo>
                    <a:pt x="3180" y="305"/>
                  </a:lnTo>
                  <a:lnTo>
                    <a:pt x="3172" y="313"/>
                  </a:lnTo>
                  <a:lnTo>
                    <a:pt x="3142" y="328"/>
                  </a:lnTo>
                  <a:lnTo>
                    <a:pt x="3135" y="335"/>
                  </a:lnTo>
                  <a:lnTo>
                    <a:pt x="3120" y="343"/>
                  </a:lnTo>
                  <a:lnTo>
                    <a:pt x="3090" y="358"/>
                  </a:lnTo>
                  <a:lnTo>
                    <a:pt x="3075" y="358"/>
                  </a:lnTo>
                  <a:lnTo>
                    <a:pt x="3060" y="365"/>
                  </a:lnTo>
                  <a:lnTo>
                    <a:pt x="3023" y="380"/>
                  </a:lnTo>
                  <a:lnTo>
                    <a:pt x="3008" y="387"/>
                  </a:lnTo>
                  <a:lnTo>
                    <a:pt x="2993" y="395"/>
                  </a:lnTo>
                  <a:lnTo>
                    <a:pt x="2956" y="402"/>
                  </a:lnTo>
                  <a:lnTo>
                    <a:pt x="2941" y="410"/>
                  </a:lnTo>
                  <a:lnTo>
                    <a:pt x="2918" y="417"/>
                  </a:lnTo>
                  <a:lnTo>
                    <a:pt x="2896" y="425"/>
                  </a:lnTo>
                  <a:lnTo>
                    <a:pt x="2859" y="432"/>
                  </a:lnTo>
                  <a:lnTo>
                    <a:pt x="2836" y="440"/>
                  </a:lnTo>
                  <a:lnTo>
                    <a:pt x="2821" y="440"/>
                  </a:lnTo>
                  <a:lnTo>
                    <a:pt x="2777" y="455"/>
                  </a:lnTo>
                  <a:lnTo>
                    <a:pt x="2754" y="462"/>
                  </a:lnTo>
                  <a:lnTo>
                    <a:pt x="2732" y="462"/>
                  </a:lnTo>
                  <a:lnTo>
                    <a:pt x="2687" y="469"/>
                  </a:lnTo>
                  <a:lnTo>
                    <a:pt x="2665" y="477"/>
                  </a:lnTo>
                  <a:lnTo>
                    <a:pt x="2642" y="484"/>
                  </a:lnTo>
                  <a:lnTo>
                    <a:pt x="2590" y="492"/>
                  </a:lnTo>
                  <a:lnTo>
                    <a:pt x="2568" y="492"/>
                  </a:lnTo>
                  <a:lnTo>
                    <a:pt x="2545" y="499"/>
                  </a:lnTo>
                  <a:lnTo>
                    <a:pt x="2493" y="507"/>
                  </a:lnTo>
                  <a:lnTo>
                    <a:pt x="2471" y="507"/>
                  </a:lnTo>
                  <a:lnTo>
                    <a:pt x="2441" y="514"/>
                  </a:lnTo>
                  <a:lnTo>
                    <a:pt x="2418" y="514"/>
                  </a:lnTo>
                  <a:lnTo>
                    <a:pt x="2366" y="522"/>
                  </a:lnTo>
                  <a:lnTo>
                    <a:pt x="2336" y="529"/>
                  </a:lnTo>
                  <a:lnTo>
                    <a:pt x="2314" y="529"/>
                  </a:lnTo>
                  <a:lnTo>
                    <a:pt x="2262" y="537"/>
                  </a:lnTo>
                  <a:lnTo>
                    <a:pt x="2232" y="537"/>
                  </a:lnTo>
                  <a:lnTo>
                    <a:pt x="2202" y="544"/>
                  </a:lnTo>
                  <a:lnTo>
                    <a:pt x="2150" y="544"/>
                  </a:lnTo>
                  <a:lnTo>
                    <a:pt x="2120" y="552"/>
                  </a:lnTo>
                  <a:lnTo>
                    <a:pt x="2090" y="552"/>
                  </a:lnTo>
                  <a:lnTo>
                    <a:pt x="2038" y="552"/>
                  </a:lnTo>
                  <a:lnTo>
                    <a:pt x="2008" y="552"/>
                  </a:lnTo>
                  <a:lnTo>
                    <a:pt x="1978" y="559"/>
                  </a:lnTo>
                  <a:lnTo>
                    <a:pt x="1926" y="559"/>
                  </a:lnTo>
                  <a:lnTo>
                    <a:pt x="1896" y="559"/>
                  </a:lnTo>
                  <a:lnTo>
                    <a:pt x="1866" y="559"/>
                  </a:lnTo>
                  <a:lnTo>
                    <a:pt x="1806" y="566"/>
                  </a:lnTo>
                  <a:lnTo>
                    <a:pt x="1776" y="566"/>
                  </a:lnTo>
                  <a:lnTo>
                    <a:pt x="1747" y="566"/>
                  </a:lnTo>
                  <a:lnTo>
                    <a:pt x="1724" y="566"/>
                  </a:lnTo>
                  <a:lnTo>
                    <a:pt x="1665" y="566"/>
                  </a:lnTo>
                  <a:lnTo>
                    <a:pt x="1635" y="566"/>
                  </a:lnTo>
                  <a:lnTo>
                    <a:pt x="1605" y="566"/>
                  </a:lnTo>
                  <a:lnTo>
                    <a:pt x="1545" y="566"/>
                  </a:lnTo>
                  <a:lnTo>
                    <a:pt x="1515" y="566"/>
                  </a:lnTo>
                  <a:lnTo>
                    <a:pt x="1485" y="559"/>
                  </a:lnTo>
                  <a:lnTo>
                    <a:pt x="1433" y="559"/>
                  </a:lnTo>
                  <a:lnTo>
                    <a:pt x="1403" y="559"/>
                  </a:lnTo>
                  <a:lnTo>
                    <a:pt x="1373" y="559"/>
                  </a:lnTo>
                  <a:lnTo>
                    <a:pt x="1314" y="552"/>
                  </a:lnTo>
                  <a:lnTo>
                    <a:pt x="1291" y="552"/>
                  </a:lnTo>
                  <a:lnTo>
                    <a:pt x="1262" y="552"/>
                  </a:lnTo>
                  <a:lnTo>
                    <a:pt x="1202" y="552"/>
                  </a:lnTo>
                  <a:lnTo>
                    <a:pt x="1179" y="544"/>
                  </a:lnTo>
                  <a:lnTo>
                    <a:pt x="1150" y="544"/>
                  </a:lnTo>
                  <a:lnTo>
                    <a:pt x="1120" y="544"/>
                  </a:lnTo>
                  <a:lnTo>
                    <a:pt x="1067" y="537"/>
                  </a:lnTo>
                  <a:lnTo>
                    <a:pt x="1038" y="537"/>
                  </a:lnTo>
                  <a:lnTo>
                    <a:pt x="1015" y="529"/>
                  </a:lnTo>
                  <a:lnTo>
                    <a:pt x="963" y="522"/>
                  </a:lnTo>
                  <a:lnTo>
                    <a:pt x="933" y="522"/>
                  </a:lnTo>
                  <a:lnTo>
                    <a:pt x="911" y="514"/>
                  </a:lnTo>
                  <a:lnTo>
                    <a:pt x="858" y="507"/>
                  </a:lnTo>
                  <a:lnTo>
                    <a:pt x="829" y="507"/>
                  </a:lnTo>
                  <a:lnTo>
                    <a:pt x="806" y="499"/>
                  </a:lnTo>
                  <a:lnTo>
                    <a:pt x="754" y="492"/>
                  </a:lnTo>
                  <a:lnTo>
                    <a:pt x="732" y="492"/>
                  </a:lnTo>
                  <a:lnTo>
                    <a:pt x="709" y="484"/>
                  </a:lnTo>
                  <a:lnTo>
                    <a:pt x="664" y="477"/>
                  </a:lnTo>
                  <a:lnTo>
                    <a:pt x="635" y="469"/>
                  </a:lnTo>
                  <a:lnTo>
                    <a:pt x="612" y="469"/>
                  </a:lnTo>
                  <a:lnTo>
                    <a:pt x="590" y="462"/>
                  </a:lnTo>
                  <a:lnTo>
                    <a:pt x="552" y="455"/>
                  </a:lnTo>
                  <a:lnTo>
                    <a:pt x="530" y="447"/>
                  </a:lnTo>
                  <a:lnTo>
                    <a:pt x="508" y="440"/>
                  </a:lnTo>
                  <a:lnTo>
                    <a:pt x="463" y="432"/>
                  </a:lnTo>
                  <a:lnTo>
                    <a:pt x="448" y="425"/>
                  </a:lnTo>
                  <a:lnTo>
                    <a:pt x="426" y="425"/>
                  </a:lnTo>
                  <a:lnTo>
                    <a:pt x="388" y="410"/>
                  </a:lnTo>
                  <a:lnTo>
                    <a:pt x="366" y="402"/>
                  </a:lnTo>
                  <a:lnTo>
                    <a:pt x="351" y="395"/>
                  </a:lnTo>
                  <a:lnTo>
                    <a:pt x="314" y="387"/>
                  </a:lnTo>
                  <a:lnTo>
                    <a:pt x="299" y="380"/>
                  </a:lnTo>
                  <a:lnTo>
                    <a:pt x="284" y="372"/>
                  </a:lnTo>
                  <a:lnTo>
                    <a:pt x="254" y="358"/>
                  </a:lnTo>
                  <a:lnTo>
                    <a:pt x="239" y="358"/>
                  </a:lnTo>
                  <a:lnTo>
                    <a:pt x="224" y="350"/>
                  </a:lnTo>
                  <a:lnTo>
                    <a:pt x="194" y="335"/>
                  </a:lnTo>
                  <a:lnTo>
                    <a:pt x="179" y="328"/>
                  </a:lnTo>
                  <a:lnTo>
                    <a:pt x="164" y="320"/>
                  </a:lnTo>
                  <a:lnTo>
                    <a:pt x="157" y="313"/>
                  </a:lnTo>
                  <a:lnTo>
                    <a:pt x="127" y="298"/>
                  </a:lnTo>
                  <a:lnTo>
                    <a:pt x="120" y="290"/>
                  </a:lnTo>
                  <a:lnTo>
                    <a:pt x="112" y="290"/>
                  </a:lnTo>
                  <a:lnTo>
                    <a:pt x="90" y="276"/>
                  </a:lnTo>
                  <a:lnTo>
                    <a:pt x="82" y="268"/>
                  </a:lnTo>
                  <a:lnTo>
                    <a:pt x="67" y="261"/>
                  </a:lnTo>
                  <a:lnTo>
                    <a:pt x="52" y="246"/>
                  </a:lnTo>
                  <a:lnTo>
                    <a:pt x="45" y="238"/>
                  </a:lnTo>
                  <a:lnTo>
                    <a:pt x="38" y="231"/>
                  </a:lnTo>
                  <a:lnTo>
                    <a:pt x="30" y="216"/>
                  </a:lnTo>
                  <a:lnTo>
                    <a:pt x="23" y="208"/>
                  </a:lnTo>
                  <a:lnTo>
                    <a:pt x="15" y="201"/>
                  </a:lnTo>
                  <a:lnTo>
                    <a:pt x="8" y="186"/>
                  </a:lnTo>
                  <a:lnTo>
                    <a:pt x="8" y="179"/>
                  </a:lnTo>
                  <a:lnTo>
                    <a:pt x="8" y="171"/>
                  </a:lnTo>
                  <a:lnTo>
                    <a:pt x="0" y="164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0" y="134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8" y="89"/>
                  </a:lnTo>
                  <a:lnTo>
                    <a:pt x="8" y="82"/>
                  </a:lnTo>
                  <a:lnTo>
                    <a:pt x="1665" y="134"/>
                  </a:lnTo>
                  <a:lnTo>
                    <a:pt x="3247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65000" y="1555920"/>
              <a:ext cx="5846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Verdana"/>
                </a:rPr>
                <a:t>Distribución de Líneas Telefónicas por Región</a:t>
              </a:r>
              <a:r>
                <a:rPr b="1" lang="en-US" sz="22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29200" y="1898640"/>
              <a:ext cx="442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Verdana"/>
                </a:rPr>
                <a:t>(Líneas a Diciembre de 2000: 3.365.03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21120" y="5546880"/>
              <a:ext cx="23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12400" y="573552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57,4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23800" y="37227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76560" y="39117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8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05600" y="321300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1360" y="34034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7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36520" y="300024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63800" y="318924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8,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6200" y="28353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68600" y="30243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34680" y="2705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15160" y="28940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4,4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36960" y="26575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42280" y="28465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04400" y="257508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18720" y="27637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,2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73120" y="26208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78360" y="281160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5320" y="261000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16840" y="27986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1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57560" y="268128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50640" y="287028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83240" y="28591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90360" y="30481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4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47720" y="3119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79240" y="330840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10,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50880" y="5961240"/>
              <a:ext cx="16462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54200" y="59850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F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73200" y="1352520"/>
            <a:ext cx="8089920" cy="5132520"/>
            <a:chOff x="673200" y="1352520"/>
            <a:chExt cx="8089920" cy="5132520"/>
          </a:xfrm>
        </p:grpSpPr>
        <p:grpSp>
          <p:nvGrpSpPr>
            <p:cNvPr id="161" name=""/>
            <p:cNvGrpSpPr/>
            <p:nvPr/>
          </p:nvGrpSpPr>
          <p:grpSpPr>
            <a:xfrm>
              <a:off x="1557360" y="2349360"/>
              <a:ext cx="6800760" cy="2874960"/>
              <a:chOff x="1557360" y="2349360"/>
              <a:chExt cx="6800760" cy="2874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557360" y="2349360"/>
                <a:ext cx="6800760" cy="9216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57360" y="2441520"/>
                <a:ext cx="6800760" cy="9072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57360" y="2532240"/>
                <a:ext cx="6800760" cy="91800"/>
              </a:xfrm>
              <a:prstGeom prst="rect">
                <a:avLst/>
              </a:prstGeom>
              <a:solidFill>
                <a:srgbClr val="98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557360" y="2624040"/>
                <a:ext cx="6800760" cy="81000"/>
              </a:xfrm>
              <a:prstGeom prst="rect">
                <a:avLst/>
              </a:prstGeom>
              <a:solidFill>
                <a:srgbClr val="97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557360" y="2705040"/>
                <a:ext cx="6800760" cy="90720"/>
              </a:xfrm>
              <a:prstGeom prst="rect">
                <a:avLst/>
              </a:prstGeom>
              <a:solidFill>
                <a:srgbClr val="97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57360" y="2795760"/>
                <a:ext cx="6800760" cy="91800"/>
              </a:xfrm>
              <a:prstGeom prst="rect">
                <a:avLst/>
              </a:prstGeom>
              <a:solidFill>
                <a:srgbClr val="96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57360" y="2887560"/>
                <a:ext cx="6800760" cy="92160"/>
              </a:xfrm>
              <a:prstGeom prst="rect">
                <a:avLst/>
              </a:prstGeom>
              <a:solidFill>
                <a:srgbClr val="96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57360" y="2979720"/>
                <a:ext cx="6800760" cy="90360"/>
              </a:xfrm>
              <a:prstGeom prst="rect">
                <a:avLst/>
              </a:prstGeom>
              <a:solidFill>
                <a:srgbClr val="95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57360" y="3070080"/>
                <a:ext cx="6800760" cy="92160"/>
              </a:xfrm>
              <a:prstGeom prst="rect">
                <a:avLst/>
              </a:prstGeom>
              <a:solidFill>
                <a:srgbClr val="94c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57360" y="3162240"/>
                <a:ext cx="6800760" cy="81000"/>
              </a:xfrm>
              <a:prstGeom prst="rect">
                <a:avLst/>
              </a:prstGeom>
              <a:solidFill>
                <a:srgbClr val="93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57360" y="3243240"/>
                <a:ext cx="6800760" cy="90360"/>
              </a:xfrm>
              <a:prstGeom prst="rect">
                <a:avLst/>
              </a:prstGeom>
              <a:solidFill>
                <a:srgbClr val="92c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57360" y="3333600"/>
                <a:ext cx="6800760" cy="92160"/>
              </a:xfrm>
              <a:prstGeom prst="rect">
                <a:avLst/>
              </a:prstGeom>
              <a:solidFill>
                <a:srgbClr val="9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557360" y="3425760"/>
                <a:ext cx="6800760" cy="92160"/>
              </a:xfrm>
              <a:prstGeom prst="rect">
                <a:avLst/>
              </a:prstGeom>
              <a:solidFill>
                <a:srgbClr val="8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557360" y="3517920"/>
                <a:ext cx="6800760" cy="92160"/>
              </a:xfrm>
              <a:prstGeom prst="rect">
                <a:avLst/>
              </a:prstGeom>
              <a:solidFill>
                <a:srgbClr val="8e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57360" y="3610080"/>
                <a:ext cx="6800760" cy="90360"/>
              </a:xfrm>
              <a:prstGeom prst="rect">
                <a:avLst/>
              </a:prstGeom>
              <a:solidFill>
                <a:srgbClr val="8c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57360" y="3700440"/>
                <a:ext cx="6800760" cy="81000"/>
              </a:xfrm>
              <a:prstGeom prst="rect">
                <a:avLst/>
              </a:prstGeom>
              <a:solidFill>
                <a:srgbClr val="8bb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557360" y="3781440"/>
                <a:ext cx="6800760" cy="92160"/>
              </a:xfrm>
              <a:prstGeom prst="rect">
                <a:avLst/>
              </a:prstGeom>
              <a:solidFill>
                <a:srgbClr val="89b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57360" y="3873600"/>
                <a:ext cx="6800760" cy="90360"/>
              </a:xfrm>
              <a:prstGeom prst="rect">
                <a:avLst/>
              </a:prstGeom>
              <a:solidFill>
                <a:srgbClr val="88b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57360" y="3963960"/>
                <a:ext cx="6800760" cy="92160"/>
              </a:xfrm>
              <a:prstGeom prst="rect">
                <a:avLst/>
              </a:prstGeom>
              <a:solidFill>
                <a:srgbClr val="86b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557360" y="4056120"/>
                <a:ext cx="6800760" cy="92160"/>
              </a:xfrm>
              <a:prstGeom prst="rect">
                <a:avLst/>
              </a:prstGeom>
              <a:solidFill>
                <a:srgbClr val="84b1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57360" y="4148280"/>
                <a:ext cx="6800760" cy="90360"/>
              </a:xfrm>
              <a:prstGeom prst="rect">
                <a:avLst/>
              </a:prstGeom>
              <a:solidFill>
                <a:srgbClr val="83a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557360" y="4238640"/>
                <a:ext cx="6800760" cy="92160"/>
              </a:xfrm>
              <a:prstGeom prst="rect">
                <a:avLst/>
              </a:prstGeom>
              <a:solidFill>
                <a:srgbClr val="81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57360" y="4330800"/>
                <a:ext cx="6800760" cy="81000"/>
              </a:xfrm>
              <a:prstGeom prst="rect">
                <a:avLst/>
              </a:prstGeom>
              <a:solidFill>
                <a:srgbClr val="80a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557360" y="4411800"/>
                <a:ext cx="6800760" cy="90360"/>
              </a:xfrm>
              <a:prstGeom prst="rect">
                <a:avLst/>
              </a:prstGeom>
              <a:solidFill>
                <a:srgbClr val="7fa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557360" y="4502160"/>
                <a:ext cx="6800760" cy="92160"/>
              </a:xfrm>
              <a:prstGeom prst="rect">
                <a:avLst/>
              </a:prstGeom>
              <a:solidFill>
                <a:srgbClr val="7ea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557360" y="4594320"/>
                <a:ext cx="6800760" cy="92160"/>
              </a:xfrm>
              <a:prstGeom prst="rect">
                <a:avLst/>
              </a:prstGeom>
              <a:solidFill>
                <a:srgbClr val="7da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557360" y="4686480"/>
                <a:ext cx="6800760" cy="9180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557360" y="4778280"/>
                <a:ext cx="6800760" cy="90720"/>
              </a:xfrm>
              <a:prstGeom prst="rect">
                <a:avLst/>
              </a:prstGeom>
              <a:solidFill>
                <a:srgbClr val="7ba5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557360" y="4869000"/>
                <a:ext cx="6800760" cy="81000"/>
              </a:xfrm>
              <a:prstGeom prst="rect">
                <a:avLst/>
              </a:pr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557360" y="4950000"/>
                <a:ext cx="6800760" cy="91800"/>
              </a:xfrm>
              <a:prstGeom prst="rect">
                <a:avLst/>
              </a:prstGeom>
              <a:solidFill>
                <a:srgbClr val="7aa4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557360" y="5041800"/>
                <a:ext cx="6800760" cy="9072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557360" y="5132520"/>
                <a:ext cx="6800760" cy="9180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57360" y="481176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57360" y="439884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57360" y="39877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57360" y="358632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57360" y="317340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57360" y="276228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57360" y="234936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1684440" y="3567240"/>
              <a:ext cx="220320" cy="1690200"/>
              <a:chOff x="1684440" y="3567240"/>
              <a:chExt cx="220320" cy="1690200"/>
            </a:xfrm>
          </p:grpSpPr>
          <p:sp>
            <p:nvSpPr>
              <p:cNvPr id="204" name=""/>
              <p:cNvSpPr/>
              <p:nvPr/>
            </p:nvSpPr>
            <p:spPr>
              <a:xfrm>
                <a:off x="1684440" y="3567240"/>
                <a:ext cx="12240" cy="169020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6680" y="3567240"/>
                <a:ext cx="24840" cy="169020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721520" y="3567240"/>
                <a:ext cx="12240" cy="169020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33760" y="3567240"/>
                <a:ext cx="24480" cy="169020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58240" y="3567240"/>
                <a:ext cx="10800" cy="169020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69040" y="3567240"/>
                <a:ext cx="24840" cy="169020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93880" y="3567240"/>
                <a:ext cx="12240" cy="16902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06120" y="3567240"/>
                <a:ext cx="24840" cy="169020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830960" y="3567240"/>
                <a:ext cx="12240" cy="169020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843200" y="3567240"/>
                <a:ext cx="24480" cy="169020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867680" y="3567240"/>
                <a:ext cx="12600" cy="169020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880280" y="3567240"/>
                <a:ext cx="24480" cy="169020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2163600" y="3429000"/>
              <a:ext cx="218880" cy="1794960"/>
              <a:chOff x="2163600" y="3429000"/>
              <a:chExt cx="218880" cy="1794960"/>
            </a:xfrm>
          </p:grpSpPr>
          <p:sp>
            <p:nvSpPr>
              <p:cNvPr id="217" name=""/>
              <p:cNvSpPr/>
              <p:nvPr/>
            </p:nvSpPr>
            <p:spPr>
              <a:xfrm>
                <a:off x="2163600" y="342900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186640" y="342900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198160" y="342900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21200" y="342900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32720" y="3429000"/>
                <a:ext cx="2304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55760" y="3429000"/>
                <a:ext cx="11160" cy="17949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267280" y="3429000"/>
                <a:ext cx="23040" cy="17949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290680" y="3429000"/>
                <a:ext cx="2268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13360" y="342900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324880" y="342900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347920" y="342900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359440" y="342900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2163600" y="3483000"/>
              <a:ext cx="241560" cy="17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2657520" y="4267080"/>
              <a:ext cx="218520" cy="960120"/>
              <a:chOff x="2657520" y="4267080"/>
              <a:chExt cx="218520" cy="960120"/>
            </a:xfrm>
          </p:grpSpPr>
          <p:sp>
            <p:nvSpPr>
              <p:cNvPr id="231" name=""/>
              <p:cNvSpPr/>
              <p:nvPr/>
            </p:nvSpPr>
            <p:spPr>
              <a:xfrm>
                <a:off x="2657520" y="4267080"/>
                <a:ext cx="11880" cy="9601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669400" y="4267080"/>
                <a:ext cx="24480" cy="96012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94240" y="4267080"/>
                <a:ext cx="11880" cy="9601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706480" y="4267080"/>
                <a:ext cx="24480" cy="96012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730960" y="4267080"/>
                <a:ext cx="11880" cy="96012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743200" y="4267080"/>
                <a:ext cx="22680" cy="96012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766240" y="4267080"/>
                <a:ext cx="11880" cy="96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778120" y="4267080"/>
                <a:ext cx="24480" cy="96012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802960" y="4267080"/>
                <a:ext cx="11880" cy="96012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815200" y="4267080"/>
                <a:ext cx="24480" cy="96012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839680" y="4267080"/>
                <a:ext cx="11880" cy="96012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51920" y="4267080"/>
                <a:ext cx="24120" cy="96012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137040" y="4114800"/>
              <a:ext cx="215280" cy="1109160"/>
              <a:chOff x="3137040" y="4114800"/>
              <a:chExt cx="215280" cy="1109160"/>
            </a:xfrm>
          </p:grpSpPr>
          <p:sp>
            <p:nvSpPr>
              <p:cNvPr id="244" name=""/>
              <p:cNvSpPr/>
              <p:nvPr/>
            </p:nvSpPr>
            <p:spPr>
              <a:xfrm>
                <a:off x="3137040" y="4114800"/>
                <a:ext cx="22320" cy="11091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159360" y="4114800"/>
                <a:ext cx="11160" cy="11091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170520" y="4114800"/>
                <a:ext cx="22680" cy="11091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193560" y="4114800"/>
                <a:ext cx="11160" cy="11091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04720" y="4114800"/>
                <a:ext cx="22680" cy="11091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27760" y="4114800"/>
                <a:ext cx="11160" cy="11091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238920" y="4114800"/>
                <a:ext cx="22680" cy="11091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261600" y="4114800"/>
                <a:ext cx="22320" cy="11091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284280" y="4114800"/>
                <a:ext cx="11520" cy="11091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295800" y="4114800"/>
                <a:ext cx="22320" cy="11091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18480" y="4114800"/>
                <a:ext cx="11160" cy="11091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29640" y="4114800"/>
                <a:ext cx="22680" cy="11091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3630600" y="3352680"/>
              <a:ext cx="218880" cy="1919160"/>
              <a:chOff x="3630600" y="3352680"/>
              <a:chExt cx="218880" cy="1919160"/>
            </a:xfrm>
          </p:grpSpPr>
          <p:sp>
            <p:nvSpPr>
              <p:cNvPr id="257" name=""/>
              <p:cNvSpPr/>
              <p:nvPr/>
            </p:nvSpPr>
            <p:spPr>
              <a:xfrm>
                <a:off x="3630600" y="3352680"/>
                <a:ext cx="11880" cy="19191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642480" y="3352680"/>
                <a:ext cx="24480" cy="19191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667320" y="3352680"/>
                <a:ext cx="11880" cy="19191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679560" y="3352680"/>
                <a:ext cx="24480" cy="19191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704040" y="3352680"/>
                <a:ext cx="11880" cy="19191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716280" y="3352680"/>
                <a:ext cx="24480" cy="19191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40760" y="3352680"/>
                <a:ext cx="10080" cy="19191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751200" y="3352680"/>
                <a:ext cx="24480" cy="19191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776040" y="3352680"/>
                <a:ext cx="11880" cy="19191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8280" y="3352680"/>
                <a:ext cx="24480" cy="19191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812760" y="3352680"/>
                <a:ext cx="11880" cy="19191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825000" y="3352680"/>
                <a:ext cx="24480" cy="19191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110120" y="2666880"/>
              <a:ext cx="218520" cy="2557080"/>
              <a:chOff x="4110120" y="2666880"/>
              <a:chExt cx="218520" cy="2557080"/>
            </a:xfrm>
          </p:grpSpPr>
          <p:sp>
            <p:nvSpPr>
              <p:cNvPr id="270" name=""/>
              <p:cNvSpPr/>
              <p:nvPr/>
            </p:nvSpPr>
            <p:spPr>
              <a:xfrm>
                <a:off x="4110120" y="2666880"/>
                <a:ext cx="22680" cy="25570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132800" y="2666880"/>
                <a:ext cx="11520" cy="25570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144680" y="2666880"/>
                <a:ext cx="22680" cy="25570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167360" y="2666880"/>
                <a:ext cx="11160" cy="25570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78880" y="2666880"/>
                <a:ext cx="23040" cy="25570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201920" y="2666880"/>
                <a:ext cx="11160" cy="25570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213440" y="2666880"/>
                <a:ext cx="23040" cy="25570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236840" y="2666880"/>
                <a:ext cx="22680" cy="25570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259520" y="2666880"/>
                <a:ext cx="11520" cy="25570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71400" y="2666880"/>
                <a:ext cx="22680" cy="25570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294080" y="2666880"/>
                <a:ext cx="11160" cy="25570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305600" y="2666880"/>
                <a:ext cx="23040" cy="25570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603680" y="4267080"/>
              <a:ext cx="218880" cy="956880"/>
              <a:chOff x="4603680" y="4267080"/>
              <a:chExt cx="218880" cy="956880"/>
            </a:xfrm>
          </p:grpSpPr>
          <p:sp>
            <p:nvSpPr>
              <p:cNvPr id="283" name=""/>
              <p:cNvSpPr/>
              <p:nvPr/>
            </p:nvSpPr>
            <p:spPr>
              <a:xfrm>
                <a:off x="4603680" y="4267080"/>
                <a:ext cx="11880" cy="95688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15560" y="4267080"/>
                <a:ext cx="24480" cy="95688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40400" y="4267080"/>
                <a:ext cx="11880" cy="95688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52640" y="4267080"/>
                <a:ext cx="24480" cy="95688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77120" y="4267080"/>
                <a:ext cx="11880" cy="95688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89360" y="4267080"/>
                <a:ext cx="24480" cy="95688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713840" y="4267080"/>
                <a:ext cx="11880" cy="9568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26080" y="4267080"/>
                <a:ext cx="22680" cy="95688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49120" y="4267080"/>
                <a:ext cx="11880" cy="95688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61360" y="4267080"/>
                <a:ext cx="24480" cy="95688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85840" y="4267080"/>
                <a:ext cx="11880" cy="95688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98080" y="4267080"/>
                <a:ext cx="24480" cy="95688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4603680" y="4284720"/>
              <a:ext cx="227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083200" y="4419720"/>
              <a:ext cx="218520" cy="804240"/>
              <a:chOff x="5083200" y="4419720"/>
              <a:chExt cx="218520" cy="804240"/>
            </a:xfrm>
          </p:grpSpPr>
          <p:sp>
            <p:nvSpPr>
              <p:cNvPr id="297" name=""/>
              <p:cNvSpPr/>
              <p:nvPr/>
            </p:nvSpPr>
            <p:spPr>
              <a:xfrm>
                <a:off x="5083200" y="4419720"/>
                <a:ext cx="11880" cy="80424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095080" y="4419720"/>
                <a:ext cx="24120" cy="80424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119560" y="4419720"/>
                <a:ext cx="11880" cy="80424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131800" y="4419720"/>
                <a:ext cx="24120" cy="80424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156280" y="4419720"/>
                <a:ext cx="11880" cy="80424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68160" y="4419720"/>
                <a:ext cx="24120" cy="80424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192280" y="4419720"/>
                <a:ext cx="12240" cy="8042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204880" y="4419720"/>
                <a:ext cx="24120" cy="80424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229000" y="4419720"/>
                <a:ext cx="12240" cy="80424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41240" y="4419720"/>
                <a:ext cx="24120" cy="80424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65360" y="4419720"/>
                <a:ext cx="11880" cy="80424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77600" y="4419720"/>
                <a:ext cx="24120" cy="80424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5564160" y="4038480"/>
              <a:ext cx="218880" cy="1185480"/>
              <a:chOff x="5564160" y="4038480"/>
              <a:chExt cx="218880" cy="1185480"/>
            </a:xfrm>
          </p:grpSpPr>
          <p:sp>
            <p:nvSpPr>
              <p:cNvPr id="310" name=""/>
              <p:cNvSpPr/>
              <p:nvPr/>
            </p:nvSpPr>
            <p:spPr>
              <a:xfrm>
                <a:off x="556416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58720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598720" y="4038480"/>
                <a:ext cx="2304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2176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633640" y="4038480"/>
                <a:ext cx="2304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656680" y="4038480"/>
                <a:ext cx="11520" cy="11854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668560" y="4038480"/>
                <a:ext cx="23040" cy="11854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691600" y="4038480"/>
                <a:ext cx="2160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1356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25440" y="4038480"/>
                <a:ext cx="2304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74848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6000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058080" y="4343400"/>
              <a:ext cx="218520" cy="880920"/>
              <a:chOff x="6058080" y="4343400"/>
              <a:chExt cx="218520" cy="880920"/>
            </a:xfrm>
          </p:grpSpPr>
          <p:sp>
            <p:nvSpPr>
              <p:cNvPr id="323" name=""/>
              <p:cNvSpPr/>
              <p:nvPr/>
            </p:nvSpPr>
            <p:spPr>
              <a:xfrm>
                <a:off x="6058080" y="4343400"/>
                <a:ext cx="10080" cy="8809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068160" y="4343400"/>
                <a:ext cx="24480" cy="88092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93000" y="4343400"/>
                <a:ext cx="11880" cy="8809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105240" y="4343400"/>
                <a:ext cx="24480" cy="88092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129720" y="4343400"/>
                <a:ext cx="11880" cy="88092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41960" y="4343400"/>
                <a:ext cx="24480" cy="88092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66800" y="4343400"/>
                <a:ext cx="11880" cy="8809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78680" y="4343400"/>
                <a:ext cx="24120" cy="88092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03160" y="4343400"/>
                <a:ext cx="12240" cy="88092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15760" y="4343400"/>
                <a:ext cx="24120" cy="88092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239880" y="4343400"/>
                <a:ext cx="12240" cy="88092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252480" y="4343400"/>
                <a:ext cx="24120" cy="88092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6058080" y="4319640"/>
              <a:ext cx="218880" cy="9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6537240" y="4038480"/>
              <a:ext cx="219240" cy="1185480"/>
              <a:chOff x="6537240" y="4038480"/>
              <a:chExt cx="219240" cy="1185480"/>
            </a:xfrm>
          </p:grpSpPr>
          <p:sp>
            <p:nvSpPr>
              <p:cNvPr id="337" name=""/>
              <p:cNvSpPr/>
              <p:nvPr/>
            </p:nvSpPr>
            <p:spPr>
              <a:xfrm>
                <a:off x="653724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56028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571800" y="4038480"/>
                <a:ext cx="2304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9520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606720" y="4038480"/>
                <a:ext cx="2304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629760" y="4038480"/>
                <a:ext cx="11520" cy="11854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641640" y="4038480"/>
                <a:ext cx="23040" cy="11854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64680" y="4038480"/>
                <a:ext cx="2304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8808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699600" y="4038480"/>
                <a:ext cx="2160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2156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73344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6537240" y="4148280"/>
              <a:ext cx="23976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7031160" y="3809880"/>
              <a:ext cx="218520" cy="1414080"/>
              <a:chOff x="7031160" y="3809880"/>
              <a:chExt cx="218520" cy="1414080"/>
            </a:xfrm>
          </p:grpSpPr>
          <p:sp>
            <p:nvSpPr>
              <p:cNvPr id="351" name=""/>
              <p:cNvSpPr/>
              <p:nvPr/>
            </p:nvSpPr>
            <p:spPr>
              <a:xfrm>
                <a:off x="7031160" y="3809880"/>
                <a:ext cx="11880" cy="141408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043040" y="3809880"/>
                <a:ext cx="22680" cy="141408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066080" y="3809880"/>
                <a:ext cx="11880" cy="141408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078320" y="3809880"/>
                <a:ext cx="24480" cy="141408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02800" y="3809880"/>
                <a:ext cx="11880" cy="141408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115040" y="3809880"/>
                <a:ext cx="24480" cy="141408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39880" y="3809880"/>
                <a:ext cx="11880" cy="14140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151760" y="3809880"/>
                <a:ext cx="24480" cy="141408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176600" y="3809880"/>
                <a:ext cx="11880" cy="141408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188840" y="3809880"/>
                <a:ext cx="24120" cy="141408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212960" y="3809880"/>
                <a:ext cx="12240" cy="141408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225560" y="3809880"/>
                <a:ext cx="24120" cy="141408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7031160" y="3906720"/>
              <a:ext cx="22680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7510320" y="3200400"/>
              <a:ext cx="219240" cy="2023560"/>
              <a:chOff x="7510320" y="3200400"/>
              <a:chExt cx="219240" cy="2023560"/>
            </a:xfrm>
          </p:grpSpPr>
          <p:sp>
            <p:nvSpPr>
              <p:cNvPr id="365" name=""/>
              <p:cNvSpPr/>
              <p:nvPr/>
            </p:nvSpPr>
            <p:spPr>
              <a:xfrm>
                <a:off x="7510320" y="3200400"/>
                <a:ext cx="23040" cy="20235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533360" y="3200400"/>
                <a:ext cx="11520" cy="20235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544880" y="3200400"/>
                <a:ext cx="23040" cy="20235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568280" y="3200400"/>
                <a:ext cx="11520" cy="20235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579800" y="3200400"/>
                <a:ext cx="23040" cy="20235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603200" y="3200400"/>
                <a:ext cx="11520" cy="20235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614720" y="3200400"/>
                <a:ext cx="23040" cy="20235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637760" y="3200400"/>
                <a:ext cx="23040" cy="20235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61160" y="3200400"/>
                <a:ext cx="11520" cy="20235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672680" y="3200400"/>
                <a:ext cx="21600" cy="20235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694640" y="3200400"/>
                <a:ext cx="11520" cy="20235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706520" y="3200400"/>
                <a:ext cx="23040" cy="20235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7510320" y="3333600"/>
              <a:ext cx="239760" cy="18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8004240" y="3429000"/>
              <a:ext cx="218520" cy="1794960"/>
              <a:chOff x="8004240" y="3429000"/>
              <a:chExt cx="218520" cy="1794960"/>
            </a:xfrm>
          </p:grpSpPr>
          <p:sp>
            <p:nvSpPr>
              <p:cNvPr id="379" name=""/>
              <p:cNvSpPr/>
              <p:nvPr/>
            </p:nvSpPr>
            <p:spPr>
              <a:xfrm>
                <a:off x="8004240" y="3429000"/>
                <a:ext cx="11880" cy="1794960"/>
              </a:xfrm>
              <a:prstGeom prst="rect">
                <a:avLst/>
              </a:prstGeom>
              <a:solidFill>
                <a:srgbClr val="48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016120" y="3429000"/>
                <a:ext cx="22680" cy="1794960"/>
              </a:xfrm>
              <a:prstGeom prst="rect">
                <a:avLst/>
              </a:prstGeom>
              <a:solidFill>
                <a:srgbClr val="54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039160" y="3429000"/>
                <a:ext cx="12240" cy="1794960"/>
              </a:xfrm>
              <a:prstGeom prst="rect">
                <a:avLst/>
              </a:prstGeom>
              <a:solidFill>
                <a:srgbClr val="68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051760" y="3429000"/>
                <a:ext cx="24120" cy="1794960"/>
              </a:xfrm>
              <a:prstGeom prst="rect">
                <a:avLst/>
              </a:prstGeom>
              <a:solidFill>
                <a:srgbClr val="7e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75880" y="3429000"/>
                <a:ext cx="11880" cy="1794960"/>
              </a:xfrm>
              <a:prstGeom prst="rect">
                <a:avLst/>
              </a:prstGeom>
              <a:solidFill>
                <a:srgbClr val="8e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088120" y="3429000"/>
                <a:ext cx="24480" cy="1794960"/>
              </a:xfrm>
              <a:prstGeom prst="rect">
                <a:avLst/>
              </a:prstGeom>
              <a:solidFill>
                <a:srgbClr val="96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112960" y="3429000"/>
                <a:ext cx="11880" cy="1794960"/>
              </a:xfrm>
              <a:prstGeom prst="rect">
                <a:avLst/>
              </a:prstGeom>
              <a:solidFill>
                <a:srgbClr val="9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124840" y="3429000"/>
                <a:ext cx="24480" cy="1794960"/>
              </a:xfrm>
              <a:prstGeom prst="rect">
                <a:avLst/>
              </a:prstGeom>
              <a:solidFill>
                <a:srgbClr val="9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149680" y="3429000"/>
                <a:ext cx="11880" cy="1794960"/>
              </a:xfrm>
              <a:prstGeom prst="rect">
                <a:avLst/>
              </a:prstGeom>
              <a:solidFill>
                <a:srgbClr val="8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161920" y="3429000"/>
                <a:ext cx="24480" cy="1794960"/>
              </a:xfrm>
              <a:prstGeom prst="rect">
                <a:avLst/>
              </a:prstGeom>
              <a:solidFill>
                <a:srgbClr val="6f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186400" y="3429000"/>
                <a:ext cx="11880" cy="1794960"/>
              </a:xfrm>
              <a:prstGeom prst="rect">
                <a:avLst/>
              </a:prstGeom>
              <a:solidFill>
                <a:srgbClr val="5a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198640" y="3429000"/>
                <a:ext cx="24120" cy="1794960"/>
              </a:xfrm>
              <a:prstGeom prst="rect">
                <a:avLst/>
              </a:prstGeom>
              <a:solidFill>
                <a:srgbClr val="4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8004240" y="3529080"/>
              <a:ext cx="226800" cy="16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57360" y="2349360"/>
              <a:ext cx="1440" cy="28749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06600" y="52243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06600" y="481176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06600" y="439884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06600" y="39877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06600" y="358632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06600" y="317340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06600" y="276228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506600" y="234936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57360" y="52243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5573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20383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53044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0114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35035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39844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44766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49579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54370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9310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41016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690408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73836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78771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83581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24160" y="1547640"/>
              <a:ext cx="444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Verdana"/>
                </a:rPr>
                <a:t>Penetración Telefónica por Región</a:t>
              </a: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08120" y="1879560"/>
              <a:ext cx="2250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(Diciembre de 20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0760" y="3276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0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50280" y="31734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2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56800" y="3952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2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36320" y="3849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3,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04320" y="31161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3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14080" y="2438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31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02960" y="3987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1,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07680" y="42051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0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50840" y="3849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4,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31800" y="4021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1,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23920" y="38606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4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43040" y="361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7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09600" y="3025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5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990920" y="32194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2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28680" y="5132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28680" y="4719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1560" y="43084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41560" y="3895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141560" y="34941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41560" y="3083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41560" y="26701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41560" y="2257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6200000">
              <a:off x="1766520" y="5216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6200000">
              <a:off x="2241000" y="5247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6200000">
              <a:off x="2704680" y="52304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6200000">
              <a:off x="3189960" y="52704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6200000">
              <a:off x="3688200" y="52851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6200000">
              <a:off x="4111560" y="530748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6200000">
              <a:off x="4644000" y="52704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6200000">
              <a:off x="5105880" y="527292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5582160" y="527760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6200000">
              <a:off x="6096600" y="525924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6200000">
              <a:off x="6607800" y="52480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6200000">
              <a:off x="7069680" y="525924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6200000">
              <a:off x="7533360" y="528336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6200000">
              <a:off x="7727400" y="5546880"/>
              <a:ext cx="75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TOTAL PAÍ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52920" y="5626080"/>
              <a:ext cx="51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eg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6200000">
              <a:off x="-241560" y="3679560"/>
              <a:ext cx="23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80"/>
                  </a:solidFill>
                  <a:latin typeface="Arial"/>
                </a:rPr>
                <a:t>Nº Líneas en Servicio / 100 Ha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3200" y="1352520"/>
              <a:ext cx="8089920" cy="5132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25800" y="5773680"/>
              <a:ext cx="305892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32000" y="58086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23880" y="3429000"/>
              <a:ext cx="69343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523880" y="762120"/>
            <a:ext cx="6096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FIJA - Centrales Telefó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Chile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7062840" cy="54388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0" y="20574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4 CT (2.3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26668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5 CT (2.5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90720" y="38862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36 CT (6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43556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gión: 87 CT (14.5%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9680" y="57913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48 (8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1143000"/>
            <a:ext cx="20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49 CT (8.2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01400" y="1704960"/>
            <a:ext cx="199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III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Región: 83 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(13.8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988600" y="2438280"/>
            <a:ext cx="143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X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54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9.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480360" y="3048120"/>
            <a:ext cx="137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23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3.8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919200" y="3733920"/>
            <a:ext cx="134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4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0.7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71720" y="4343400"/>
            <a:ext cx="149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2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2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3080" y="505476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gión Metropolita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64 CT (27.3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3276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2 CT (2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1676520" y="1828800"/>
            <a:ext cx="761760" cy="4572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981080" y="2286000"/>
            <a:ext cx="1067040" cy="60948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438280" y="2819520"/>
            <a:ext cx="1067040" cy="6858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048120" y="3581280"/>
            <a:ext cx="1218960" cy="9907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3505320" y="3581280"/>
            <a:ext cx="914400" cy="1676520"/>
          </a:xfrm>
          <a:prstGeom prst="line">
            <a:avLst/>
          </a:prstGeom>
          <a:ln w="3816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819160" y="3352680"/>
            <a:ext cx="1143000" cy="762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3885840" y="3733920"/>
            <a:ext cx="609480" cy="205740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800600" y="1600200"/>
            <a:ext cx="457200" cy="220968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952520" y="2209680"/>
            <a:ext cx="685800" cy="1905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5181120" y="2895480"/>
            <a:ext cx="762120" cy="137160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486400" y="3352680"/>
            <a:ext cx="914400" cy="121932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6248520" y="4191120"/>
            <a:ext cx="761760" cy="99036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7543800" y="4800600"/>
            <a:ext cx="1440" cy="114300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55280" y="6308640"/>
            <a:ext cx="449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OTAL = 601 Centrales Telefó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Logo%20SUBTEL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18:56:22Z</dcterms:created>
  <dc:creator>evega</dc:creator>
  <dc:description/>
  <dc:language>en-US</dc:language>
  <cp:lastModifiedBy>Fabiola Diaz</cp:lastModifiedBy>
  <cp:lastPrinted>2001-10-11T01:35:12Z</cp:lastPrinted>
  <dcterms:modified xsi:type="dcterms:W3CDTF">2001-10-16T03:55:23Z</dcterms:modified>
  <cp:revision>239</cp:revision>
  <dc:subject/>
  <dc:title>Sin título de diapositiva</dc:title>
</cp:coreProperties>
</file>